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3087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  <a:p>
            <a:pPr lvl="1" marL="379440" indent="0"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94680" algn="ctr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9468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10152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033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1600" y="14904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9</a:t>
            </a:r>
            <a:br>
              <a:rPr sz="5000"/>
            </a:b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33280" y="152352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Cellular Respiration: Harvesting Chemical Energy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dox Reactions: Oxidation and Redu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tabolic pathways yield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the transfer of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he Principle of Redox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ox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electrons from one reactant to another by oxidation and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xi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stance loses electrons, or is oxid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re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stance gains electrons, or is re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 of redox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452600" y="2477520"/>
            <a:ext cx="6472080" cy="1523520"/>
            <a:chOff x="1452600" y="2477520"/>
            <a:chExt cx="6472080" cy="1523520"/>
          </a:xfrm>
        </p:grpSpPr>
        <p:sp>
          <p:nvSpPr>
            <p:cNvPr id="213" name=""/>
            <p:cNvSpPr/>
            <p:nvPr/>
          </p:nvSpPr>
          <p:spPr>
            <a:xfrm>
              <a:off x="1452600" y="3099240"/>
              <a:ext cx="6472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      +       Cl                        Na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+      Cl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68960" y="32767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743200" y="2477520"/>
              <a:ext cx="2797200" cy="583200"/>
              <a:chOff x="2743200" y="2477520"/>
              <a:chExt cx="2797200" cy="583200"/>
            </a:xfrm>
          </p:grpSpPr>
          <p:sp>
            <p:nvSpPr>
              <p:cNvPr id="216" name=""/>
              <p:cNvSpPr/>
              <p:nvPr/>
            </p:nvSpPr>
            <p:spPr>
              <a:xfrm>
                <a:off x="3691800" y="2477520"/>
                <a:ext cx="16146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ecomes oxidized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(loses electron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743200" y="2743200"/>
                <a:ext cx="995400" cy="317520"/>
                <a:chOff x="2743200" y="2743200"/>
                <a:chExt cx="995400" cy="317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2770200" y="2743200"/>
                  <a:ext cx="96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743200" y="2743200"/>
                  <a:ext cx="0" cy="317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5273640" y="2730600"/>
                <a:ext cx="266760" cy="330120"/>
                <a:chOff x="5273640" y="2730600"/>
                <a:chExt cx="266760" cy="3301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5273640" y="2730600"/>
                  <a:ext cx="254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540400" y="2747880"/>
                  <a:ext cx="0" cy="312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86200" y="3436920"/>
              <a:ext cx="2616120" cy="564120"/>
              <a:chOff x="3886200" y="3436920"/>
              <a:chExt cx="2616120" cy="56412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4642560" y="3436920"/>
                <a:ext cx="1859760" cy="564120"/>
                <a:chOff x="4642560" y="3436920"/>
                <a:chExt cx="1859760" cy="5641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6210000" y="3741480"/>
                  <a:ext cx="291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642560" y="3482280"/>
                  <a:ext cx="16038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ecomes reduce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(gains electron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6502320" y="3436920"/>
                  <a:ext cx="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886200" y="3436920"/>
                <a:ext cx="770040" cy="304920"/>
                <a:chOff x="3886200" y="3436920"/>
                <a:chExt cx="770040" cy="3049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886200" y="3741840"/>
                  <a:ext cx="770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86200" y="3436920"/>
                  <a:ext cx="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redox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ompletely exchang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degree of electron sharing in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063440" y="3149640"/>
            <a:ext cx="6632640" cy="3302280"/>
            <a:chOff x="1063440" y="3149640"/>
            <a:chExt cx="6632640" cy="330228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2282760" y="3149640"/>
              <a:ext cx="5032440" cy="325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"/>
            <p:cNvGrpSpPr/>
            <p:nvPr/>
          </p:nvGrpSpPr>
          <p:grpSpPr>
            <a:xfrm>
              <a:off x="1063440" y="3160800"/>
              <a:ext cx="6632640" cy="3291120"/>
              <a:chOff x="1063440" y="3160800"/>
              <a:chExt cx="6632640" cy="3291120"/>
            </a:xfrm>
          </p:grpSpPr>
          <p:sp>
            <p:nvSpPr>
              <p:cNvPr id="236" name=""/>
              <p:cNvSpPr/>
              <p:nvPr/>
            </p:nvSpPr>
            <p:spPr>
              <a:xfrm>
                <a:off x="2560680" y="3957480"/>
                <a:ext cx="60948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flipV="1">
                <a:off x="2724120" y="4489920"/>
                <a:ext cx="30960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flipV="1">
                <a:off x="2712960" y="5371920"/>
                <a:ext cx="309600" cy="4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3130560" y="4952520"/>
                <a:ext cx="309600" cy="4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flipV="1">
                <a:off x="2322360" y="4950720"/>
                <a:ext cx="3096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717640" y="4922640"/>
                <a:ext cx="360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516480" y="4938840"/>
                <a:ext cx="360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292640" y="4938840"/>
                <a:ext cx="360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560" y="4940280"/>
                <a:ext cx="360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03920" y="4938840"/>
                <a:ext cx="360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02320" y="4940280"/>
                <a:ext cx="360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207040" y="4937040"/>
                <a:ext cx="360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6108840" y="4939920"/>
                <a:ext cx="309600" cy="4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6946920" y="4939920"/>
                <a:ext cx="311040" cy="4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33720" y="5727600"/>
                <a:ext cx="158436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ethan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reducing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gent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22520" y="5715000"/>
                <a:ext cx="158436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xygen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oxidizing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gent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62440" y="5727600"/>
                <a:ext cx="15858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rbon dioxid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11720" y="5727600"/>
                <a:ext cx="1584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a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09840" y="3930120"/>
                <a:ext cx="360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862440" y="3940200"/>
                <a:ext cx="4572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O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65840" y="3951360"/>
                <a:ext cx="442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34120" y="3924000"/>
                <a:ext cx="360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19600" y="3946680"/>
                <a:ext cx="68580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210360" y="3924000"/>
                <a:ext cx="360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464160" y="3951360"/>
                <a:ext cx="6080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 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30640" y="3503520"/>
                <a:ext cx="1341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ecomes oxidiz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65840" y="4394160"/>
                <a:ext cx="13395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ecomes reduce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986200" y="3162240"/>
                <a:ext cx="1280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acta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07000" y="3160800"/>
                <a:ext cx="1281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du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63440" y="6146280"/>
                <a:ext cx="1027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gure 9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Oxidation of Organic Fuel Molecules During Cellular Respi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ing cellular respi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 is oxidized and oxygen is re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452600" y="2819160"/>
            <a:ext cx="6472080" cy="1067400"/>
            <a:chOff x="1452600" y="2819160"/>
            <a:chExt cx="6472080" cy="1067400"/>
          </a:xfrm>
        </p:grpSpPr>
        <p:sp>
          <p:nvSpPr>
            <p:cNvPr id="269" name=""/>
            <p:cNvSpPr/>
            <p:nvPr/>
          </p:nvSpPr>
          <p:spPr>
            <a:xfrm>
              <a:off x="1452600" y="3082320"/>
              <a:ext cx="64720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6C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 + Ener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00320" y="3301920"/>
              <a:ext cx="609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33960" y="2819160"/>
              <a:ext cx="1614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comes oxid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908080" y="2971800"/>
              <a:ext cx="499320" cy="164520"/>
              <a:chOff x="2908080" y="2971800"/>
              <a:chExt cx="499320" cy="164520"/>
            </a:xfrm>
          </p:grpSpPr>
          <p:sp>
            <p:nvSpPr>
              <p:cNvPr id="273" name=""/>
              <p:cNvSpPr/>
              <p:nvPr/>
            </p:nvSpPr>
            <p:spPr>
              <a:xfrm>
                <a:off x="2934720" y="2971800"/>
                <a:ext cx="47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908080" y="2971800"/>
                <a:ext cx="0" cy="164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902120" y="2971800"/>
              <a:ext cx="253440" cy="202680"/>
              <a:chOff x="4902120" y="2971800"/>
              <a:chExt cx="253440" cy="202680"/>
            </a:xfrm>
          </p:grpSpPr>
          <p:sp>
            <p:nvSpPr>
              <p:cNvPr id="276" name=""/>
              <p:cNvSpPr/>
              <p:nvPr/>
            </p:nvSpPr>
            <p:spPr>
              <a:xfrm>
                <a:off x="4902120" y="297180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155560" y="2971800"/>
                <a:ext cx="0" cy="202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893040" y="3580920"/>
              <a:ext cx="1603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comes reduc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19440" y="374652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48240" y="3746520"/>
              <a:ext cx="29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5752800" y="3428640"/>
              <a:ext cx="0" cy="30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19440" y="344160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tepwise Energy Harvest via NAD</a:t>
            </a:r>
            <a:r>
              <a:rPr b="1" i="1" lang="en-US" sz="3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and the Electron Transport Chai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07928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izes glucose in a series of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ons from organic compo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ually first transferred to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coenz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82760" y="2209320"/>
            <a:ext cx="8127720" cy="4255560"/>
            <a:chOff x="482760" y="2209320"/>
            <a:chExt cx="8127720" cy="4255560"/>
          </a:xfrm>
        </p:grpSpPr>
        <p:grpSp>
          <p:nvGrpSpPr>
            <p:cNvPr id="288" name=""/>
            <p:cNvGrpSpPr/>
            <p:nvPr/>
          </p:nvGrpSpPr>
          <p:grpSpPr>
            <a:xfrm>
              <a:off x="482760" y="2209320"/>
              <a:ext cx="8127720" cy="4213800"/>
              <a:chOff x="482760" y="2209320"/>
              <a:chExt cx="8127720" cy="4213800"/>
            </a:xfrm>
          </p:grpSpPr>
          <p:pic>
            <p:nvPicPr>
              <p:cNvPr id="2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1480" y="2371680"/>
                <a:ext cx="8109000" cy="40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>
                <a:off x="1143000" y="2536200"/>
                <a:ext cx="1600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1992240" y="2840400"/>
                <a:ext cx="3873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373480" y="2906280"/>
                <a:ext cx="450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55640" y="3880800"/>
                <a:ext cx="450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2760" y="4136400"/>
                <a:ext cx="450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052640" y="4136400"/>
                <a:ext cx="450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52400" y="4397040"/>
                <a:ext cx="4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93560" y="4650840"/>
                <a:ext cx="4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47600" y="4657320"/>
                <a:ext cx="4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43040" y="4938120"/>
                <a:ext cx="450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584360" y="3939840"/>
                <a:ext cx="450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606680" y="5436720"/>
                <a:ext cx="450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46280" y="4165560"/>
                <a:ext cx="450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63560" y="4681440"/>
                <a:ext cx="450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36600" y="3851280"/>
                <a:ext cx="5922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19320" y="4886280"/>
                <a:ext cx="59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17600" y="4657680"/>
                <a:ext cx="59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738440" y="4649760"/>
                <a:ext cx="591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82800" y="4438440"/>
                <a:ext cx="59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60640" y="5956200"/>
                <a:ext cx="591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16160" y="6148080"/>
                <a:ext cx="591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770120" y="6148080"/>
                <a:ext cx="59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69880" y="4809960"/>
                <a:ext cx="59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78120" y="5941800"/>
                <a:ext cx="59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54160" y="4430520"/>
                <a:ext cx="59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922400" y="3633480"/>
                <a:ext cx="59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303640" y="3255840"/>
                <a:ext cx="591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666880" y="3240000"/>
                <a:ext cx="5922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14520" y="5157720"/>
                <a:ext cx="59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84240" y="4979880"/>
                <a:ext cx="59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666880" y="5341680"/>
                <a:ext cx="59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2320" y="4691160"/>
                <a:ext cx="59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273400" y="5367240"/>
                <a:ext cx="59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455920" y="5037120"/>
                <a:ext cx="59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133720" y="3709800"/>
                <a:ext cx="1600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icotinamid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oxidized for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299360" y="3240000"/>
                <a:ext cx="5922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94160" y="3220560"/>
                <a:ext cx="450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27520" y="3233520"/>
                <a:ext cx="59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[H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81280" y="3450600"/>
                <a:ext cx="1067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(from foo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495680" y="2841120"/>
                <a:ext cx="1905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hydrogena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495680" y="3146040"/>
                <a:ext cx="1905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duction of NAD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495680" y="3526920"/>
                <a:ext cx="1905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xidation of NAD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49680" y="2209320"/>
                <a:ext cx="1905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 e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 2 H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584680" y="2383920"/>
                <a:ext cx="1905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 e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 H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400800" y="2536200"/>
                <a:ext cx="1600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72480" y="2907720"/>
                <a:ext cx="450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24480" y="2982240"/>
                <a:ext cx="4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54680" y="2993400"/>
                <a:ext cx="4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41920" y="3590280"/>
                <a:ext cx="4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969240" y="3242880"/>
                <a:ext cx="450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007480" y="3222000"/>
                <a:ext cx="450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705720" y="3679560"/>
                <a:ext cx="1600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icotinamid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reduced for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889280" y="5310000"/>
                <a:ext cx="591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476520" y="615924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DH, the reduced form of NAD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s the electrons to the electron transport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electron transfer is not stepw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release of energy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n the reaction of hydrogen and oxygen to form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282400" y="2979000"/>
            <a:ext cx="5934600" cy="3498480"/>
            <a:chOff x="2282400" y="2979000"/>
            <a:chExt cx="5934600" cy="3498480"/>
          </a:xfrm>
        </p:grpSpPr>
        <p:grpSp>
          <p:nvGrpSpPr>
            <p:cNvPr id="349" name=""/>
            <p:cNvGrpSpPr/>
            <p:nvPr/>
          </p:nvGrpSpPr>
          <p:grpSpPr>
            <a:xfrm>
              <a:off x="2282400" y="2997360"/>
              <a:ext cx="5934600" cy="3480120"/>
              <a:chOff x="2282400" y="2997360"/>
              <a:chExt cx="5934600" cy="348012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3556080" y="2997360"/>
                <a:ext cx="4660920" cy="3430080"/>
                <a:chOff x="3556080" y="2997360"/>
                <a:chExt cx="4660920" cy="3430080"/>
              </a:xfrm>
            </p:grpSpPr>
            <p:pic>
              <p:nvPicPr>
                <p:cNvPr id="35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673440" y="2997360"/>
                  <a:ext cx="1797120" cy="342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2" name=""/>
                <p:cNvSpPr/>
                <p:nvPr/>
              </p:nvSpPr>
              <p:spPr>
                <a:xfrm>
                  <a:off x="5245200" y="4495320"/>
                  <a:ext cx="29718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(a) Uncontrolled reac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6200000">
                  <a:off x="2841120" y="4601160"/>
                  <a:ext cx="16747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ree energy, 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860640" y="6161760"/>
                  <a:ext cx="59220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29280" y="4282920"/>
                  <a:ext cx="13716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plosive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lease of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eat and light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nerg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2282400" y="6171840"/>
                <a:ext cx="12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gure 9.5 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3708360" y="2979000"/>
              <a:ext cx="10666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: Life Is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ving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transfusions of energy from outside sources to perform their many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lectron transport ch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s electrons in a series of steps instead of in one explosiv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the energy from the electron transfer to form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806200" y="838080"/>
            <a:ext cx="4318560" cy="5549040"/>
            <a:chOff x="2806200" y="838080"/>
            <a:chExt cx="4318560" cy="5549040"/>
          </a:xfrm>
        </p:grpSpPr>
        <p:grpSp>
          <p:nvGrpSpPr>
            <p:cNvPr id="362" name=""/>
            <p:cNvGrpSpPr/>
            <p:nvPr/>
          </p:nvGrpSpPr>
          <p:grpSpPr>
            <a:xfrm>
              <a:off x="2806200" y="838080"/>
              <a:ext cx="4318560" cy="5549040"/>
              <a:chOff x="2806200" y="838080"/>
              <a:chExt cx="4318560" cy="5549040"/>
            </a:xfrm>
          </p:grpSpPr>
          <p:pic>
            <p:nvPicPr>
              <p:cNvPr id="3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838080"/>
                <a:ext cx="4305240" cy="48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3736800" y="875880"/>
                <a:ext cx="682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 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261120" y="874080"/>
                <a:ext cx="83808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111480" y="1307880"/>
                <a:ext cx="1905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(from food via NAD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27480" y="1968120"/>
                <a:ext cx="1523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 H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  2 e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24280" y="4847760"/>
                <a:ext cx="609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 H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46600" y="4470120"/>
                <a:ext cx="538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 e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613480" y="5410440"/>
                <a:ext cx="5922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75240" y="4646160"/>
                <a:ext cx="67968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24280" y="1727280"/>
                <a:ext cx="1067040" cy="10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rolled release of energy for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ynthesis of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89520" y="2541600"/>
                <a:ext cx="762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2965320"/>
                <a:ext cx="761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81520" y="3433680"/>
                <a:ext cx="762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4500000">
                <a:off x="2748960" y="3345840"/>
                <a:ext cx="2882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lectron transport chai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200000">
                <a:off x="1672200" y="3179880"/>
                <a:ext cx="2573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ree energy, 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14800" y="6081480"/>
                <a:ext cx="2666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 Cellular respir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470480" y="888480"/>
                <a:ext cx="1523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815920" y="6070320"/>
              <a:ext cx="1206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5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Stages of Cellular Respiration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 Pre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iration is a cumulative function of three metabolic st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s down glucose into two molecules of pyru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s the breakdown of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riven by the electron transport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s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verview of cellular respi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98280" y="1450800"/>
            <a:ext cx="8740800" cy="5026680"/>
            <a:chOff x="98280" y="1450800"/>
            <a:chExt cx="8740800" cy="5026680"/>
          </a:xfrm>
        </p:grpSpPr>
        <p:sp>
          <p:nvSpPr>
            <p:cNvPr id="390" name=""/>
            <p:cNvSpPr/>
            <p:nvPr/>
          </p:nvSpPr>
          <p:spPr>
            <a:xfrm>
              <a:off x="98280" y="617184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1066680" y="1450800"/>
              <a:ext cx="7772400" cy="4937760"/>
              <a:chOff x="1066680" y="1450800"/>
              <a:chExt cx="7772400" cy="4937760"/>
            </a:xfrm>
          </p:grpSpPr>
          <p:pic>
            <p:nvPicPr>
              <p:cNvPr id="3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1450800"/>
                <a:ext cx="7772400" cy="493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>
                <a:off x="1841400" y="1881720"/>
                <a:ext cx="9907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lectr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arri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ia NAD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63360" y="3279240"/>
                <a:ext cx="979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lycols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219320" y="3426840"/>
                <a:ext cx="834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62120" y="3520440"/>
                <a:ext cx="8906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69640" y="5362200"/>
                <a:ext cx="531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71480" y="5869800"/>
                <a:ext cx="14454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bstrate-lev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hosphoryl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492880" y="1869120"/>
                <a:ext cx="157644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lectrons carrie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ia NADH an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143680" y="3177360"/>
                <a:ext cx="74916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itric acid cyc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553080" y="3024360"/>
                <a:ext cx="163836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xidative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osphorylation: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lectron transport and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hemiosmosi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403760" y="5336640"/>
                <a:ext cx="531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05160" y="5362200"/>
                <a:ext cx="531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543200" y="5763600"/>
                <a:ext cx="14454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bstrate-lev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hosphoryl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08400" y="5839560"/>
                <a:ext cx="14454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xidati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hosphoryl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60080" y="4498560"/>
                <a:ext cx="1305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itochondr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507680" y="4396680"/>
                <a:ext cx="780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ytos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th glycolysis and the citric acid cy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generate ATP by substrate-level phosphory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80880" y="3127320"/>
            <a:ext cx="8305920" cy="2892960"/>
            <a:chOff x="380880" y="3127320"/>
            <a:chExt cx="8305920" cy="2892960"/>
          </a:xfrm>
        </p:grpSpPr>
        <p:sp>
          <p:nvSpPr>
            <p:cNvPr id="411" name=""/>
            <p:cNvSpPr/>
            <p:nvPr/>
          </p:nvSpPr>
          <p:spPr>
            <a:xfrm>
              <a:off x="529920" y="571464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380880" y="3127320"/>
              <a:ext cx="8305920" cy="2892960"/>
              <a:chOff x="380880" y="3127320"/>
              <a:chExt cx="8305920" cy="2892960"/>
            </a:xfrm>
          </p:grpSpPr>
          <p:pic>
            <p:nvPicPr>
              <p:cNvPr id="4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3127320"/>
                <a:ext cx="8305920" cy="26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1066680" y="3413520"/>
                <a:ext cx="1905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nzym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943600" y="3429360"/>
                <a:ext cx="1904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nzym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15200" y="5197320"/>
                <a:ext cx="761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514600" y="4267080"/>
                <a:ext cx="761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486400" y="5714640"/>
                <a:ext cx="990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duc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9480" y="4952880"/>
                <a:ext cx="114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bstr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14440" y="4778280"/>
                <a:ext cx="761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25440" y="5117760"/>
                <a:ext cx="288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9.2: Glycolysis harvests energy by oxidizing glucose to pyruv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s “splitting of sug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s down glucose into pyru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the cytoplasm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ycolysis consists of two major ph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vestment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payoff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416120" y="1447920"/>
            <a:ext cx="4461120" cy="5029560"/>
            <a:chOff x="4416120" y="1447920"/>
            <a:chExt cx="4461120" cy="5029560"/>
          </a:xfrm>
        </p:grpSpPr>
        <p:grpSp>
          <p:nvGrpSpPr>
            <p:cNvPr id="427" name=""/>
            <p:cNvGrpSpPr/>
            <p:nvPr/>
          </p:nvGrpSpPr>
          <p:grpSpPr>
            <a:xfrm>
              <a:off x="5448240" y="1447920"/>
              <a:ext cx="3429000" cy="4996800"/>
              <a:chOff x="5448240" y="1447920"/>
              <a:chExt cx="3429000" cy="4996800"/>
            </a:xfrm>
          </p:grpSpPr>
          <p:pic>
            <p:nvPicPr>
              <p:cNvPr id="4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535720" y="1447920"/>
                <a:ext cx="3216240" cy="495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"/>
              <p:cNvSpPr/>
              <p:nvPr/>
            </p:nvSpPr>
            <p:spPr>
              <a:xfrm>
                <a:off x="5600880" y="1814040"/>
                <a:ext cx="7347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lycolysi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02240" y="1843200"/>
                <a:ext cx="52560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itric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cid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yc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86640" y="1828440"/>
                <a:ext cx="998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xidative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hosphoryl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730840" y="2463480"/>
                <a:ext cx="5256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61200" y="2445840"/>
                <a:ext cx="5252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942240" y="2449080"/>
                <a:ext cx="5252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48640" y="3492000"/>
                <a:ext cx="5252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 AT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696080" y="4292280"/>
                <a:ext cx="5256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 AT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161200" y="3482640"/>
                <a:ext cx="5256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se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99280" y="4276440"/>
                <a:ext cx="5940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orme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443640" y="3009600"/>
                <a:ext cx="6303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095880" y="3479400"/>
                <a:ext cx="735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 ATP + 2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561000" y="3476520"/>
                <a:ext cx="5256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32520" y="4304880"/>
                <a:ext cx="8920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 ADP + 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588000" y="4290840"/>
                <a:ext cx="5241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840" y="4761720"/>
                <a:ext cx="1208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 NAD</a:t>
                </a:r>
                <a:r>
                  <a:rPr b="0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+ 4 e</a:t>
                </a:r>
                <a:r>
                  <a:rPr b="0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+ 4 H </a:t>
                </a:r>
                <a:r>
                  <a:rPr b="0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75560" y="4808520"/>
                <a:ext cx="6174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 NAD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148600" y="4800240"/>
                <a:ext cx="5256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+ 2 H</a:t>
                </a:r>
                <a:r>
                  <a:rPr b="0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634160" y="5184720"/>
                <a:ext cx="124308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 Pyruvate + 2 H</a:t>
                </a:r>
                <a:r>
                  <a:rPr b="0" lang="en-US" sz="9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653080" y="2717280"/>
                <a:ext cx="16286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Energy investment pha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548320" y="3890520"/>
                <a:ext cx="1627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Energy payoff pha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392880" y="5638320"/>
                <a:ext cx="681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426440" y="5635440"/>
                <a:ext cx="126036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 Pyruvate + 2 H</a:t>
                </a:r>
                <a:r>
                  <a:rPr b="0" lang="en-US" sz="9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448240" y="5852880"/>
                <a:ext cx="16527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 ATP formed – 2 ATP use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496280" y="5857560"/>
                <a:ext cx="5238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 AT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65840" y="6077880"/>
                <a:ext cx="1208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 NAD</a:t>
                </a:r>
                <a:r>
                  <a:rPr b="0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+ 4 e</a:t>
                </a:r>
                <a:r>
                  <a:rPr b="0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+ 4 H </a:t>
                </a:r>
                <a:r>
                  <a:rPr b="0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540560" y="6095520"/>
                <a:ext cx="6382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 NAD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881840" y="5866920"/>
                <a:ext cx="5256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+ 2 H</a:t>
                </a:r>
                <a:r>
                  <a:rPr b="0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4416120" y="617184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 algn="ctr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loser look at the energy investment ph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iant pan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s energy for its cells by eating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163520" y="2133720"/>
            <a:ext cx="6685200" cy="4318200"/>
            <a:chOff x="1163520" y="2133720"/>
            <a:chExt cx="6685200" cy="431820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2209680" y="2133720"/>
              <a:ext cx="5639040" cy="42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163520" y="614628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1661760" y="752400"/>
            <a:ext cx="4967280" cy="5725080"/>
            <a:chOff x="1661760" y="752400"/>
            <a:chExt cx="4967280" cy="5725080"/>
          </a:xfrm>
        </p:grpSpPr>
        <p:grpSp>
          <p:nvGrpSpPr>
            <p:cNvPr id="461" name=""/>
            <p:cNvGrpSpPr/>
            <p:nvPr/>
          </p:nvGrpSpPr>
          <p:grpSpPr>
            <a:xfrm>
              <a:off x="2789640" y="752400"/>
              <a:ext cx="3839400" cy="5649840"/>
              <a:chOff x="2789640" y="752400"/>
              <a:chExt cx="3839400" cy="56498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2789640" y="752400"/>
                <a:ext cx="3839400" cy="5649840"/>
                <a:chOff x="2789640" y="752400"/>
                <a:chExt cx="3839400" cy="564984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2789640" y="752400"/>
                  <a:ext cx="3659040" cy="5649840"/>
                  <a:chOff x="2789640" y="752400"/>
                  <a:chExt cx="3659040" cy="5649840"/>
                </a:xfrm>
              </p:grpSpPr>
              <p:pic>
                <p:nvPicPr>
                  <p:cNvPr id="464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917800" y="763560"/>
                    <a:ext cx="35308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5" name=""/>
                  <p:cNvSpPr/>
                  <p:nvPr/>
                </p:nvSpPr>
                <p:spPr>
                  <a:xfrm>
                    <a:off x="2789640" y="5975640"/>
                    <a:ext cx="106740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Dihydroxyaceto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hosphat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3955680" y="6001200"/>
                    <a:ext cx="97740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Glyceraldehyde-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-phosphat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654360" y="90288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3750840" y="95544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3738240" y="122040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3935160" y="100764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043160" y="90288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019760" y="1107720"/>
                    <a:ext cx="3556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3895920" y="1244160"/>
                    <a:ext cx="3556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3559320" y="1107720"/>
                    <a:ext cx="3556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3751200" y="1047240"/>
                    <a:ext cx="3556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3538800" y="2089080"/>
                    <a:ext cx="556920" cy="24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9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3638160" y="223488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3746160" y="228708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3730320" y="254268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3930840" y="2327400"/>
                    <a:ext cx="27648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3940200" y="2211120"/>
                    <a:ext cx="27360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4059000" y="224280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891240" y="2560320"/>
                    <a:ext cx="3556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3554640" y="2439720"/>
                    <a:ext cx="3556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3749760" y="2371320"/>
                    <a:ext cx="3556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041360" y="2106360"/>
                    <a:ext cx="26136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3465360" y="3103560"/>
                    <a:ext cx="474840" cy="24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9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3868560" y="3120840"/>
                    <a:ext cx="26136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549240" y="339372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749760" y="3188880"/>
                    <a:ext cx="27360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3652560" y="330948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3613320" y="3514320"/>
                    <a:ext cx="3556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3773520" y="3309480"/>
                    <a:ext cx="3556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3871800" y="350640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3946680" y="3385800"/>
                    <a:ext cx="3556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3953160" y="3187440"/>
                    <a:ext cx="556920" cy="24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9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3333600" y="4406400"/>
                    <a:ext cx="26136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3479760" y="4397040"/>
                    <a:ext cx="27360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3612960" y="4383000"/>
                    <a:ext cx="386280" cy="24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9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822480" y="4403520"/>
                    <a:ext cx="27360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3966840" y="4394160"/>
                    <a:ext cx="386280" cy="24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9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4206960" y="4416120"/>
                    <a:ext cx="27360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4390920" y="4406400"/>
                    <a:ext cx="26136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3665520" y="4741560"/>
                    <a:ext cx="3556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3605040" y="460512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3846600" y="4544640"/>
                    <a:ext cx="3556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3912840" y="473364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3996000" y="4644720"/>
                    <a:ext cx="3556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3225600" y="5503680"/>
                    <a:ext cx="27360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3073320" y="5511600"/>
                    <a:ext cx="26136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3355920" y="5497200"/>
                    <a:ext cx="386280" cy="24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9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3344760" y="566388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3508200" y="5655960"/>
                    <a:ext cx="27360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3203640" y="5814720"/>
                    <a:ext cx="556920" cy="24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9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4225680" y="543852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4209840" y="5587560"/>
                    <a:ext cx="2674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4212000" y="5725800"/>
                    <a:ext cx="52020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HO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4190760" y="5875200"/>
                    <a:ext cx="386280" cy="24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9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4356000" y="5595480"/>
                    <a:ext cx="27360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4411440" y="5876640"/>
                    <a:ext cx="27360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4597200" y="5887800"/>
                    <a:ext cx="26136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406320" y="1564920"/>
                    <a:ext cx="40752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TP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455640" y="1877760"/>
                    <a:ext cx="41976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DP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3948480" y="1771200"/>
                    <a:ext cx="78696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Hexokinas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3660840" y="1335240"/>
                    <a:ext cx="5875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Glucos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3345120" y="2678040"/>
                    <a:ext cx="1225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Glucose-6-phosphat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3341520" y="3637080"/>
                    <a:ext cx="12535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Fructose-6-phosphat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3416040" y="3862080"/>
                    <a:ext cx="40752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TP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3446280" y="4187520"/>
                    <a:ext cx="41976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DP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938400" y="2957040"/>
                    <a:ext cx="144540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hosphoglucoisomeras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3917880" y="3957480"/>
                    <a:ext cx="126108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hosphofructokinas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450600" y="4848480"/>
                    <a:ext cx="105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Fructose-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, 6-bisphosphat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3952440" y="5130360"/>
                    <a:ext cx="62712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ldolas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611520" y="5546520"/>
                    <a:ext cx="72144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Isomeras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145120" y="968040"/>
                    <a:ext cx="582840" cy="199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Glycolysi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3984840" y="1557360"/>
                    <a:ext cx="241560" cy="304920"/>
                    <a:chOff x="3984840" y="1557360"/>
                    <a:chExt cx="241560" cy="304920"/>
                  </a:xfrm>
                </p:grpSpPr>
                <p:grpSp>
                  <p:nvGrpSpPr>
                    <p:cNvPr id="537" name=""/>
                    <p:cNvGrpSpPr/>
                    <p:nvPr/>
                  </p:nvGrpSpPr>
                  <p:grpSpPr>
                    <a:xfrm>
                      <a:off x="4005360" y="1557360"/>
                      <a:ext cx="184320" cy="304920"/>
                      <a:chOff x="4005360" y="1557360"/>
                      <a:chExt cx="184320" cy="304920"/>
                    </a:xfrm>
                  </p:grpSpPr>
                  <p:sp>
                    <p:nvSpPr>
                      <p:cNvPr id="538" name=""/>
                      <p:cNvSpPr/>
                      <p:nvPr/>
                    </p:nvSpPr>
                    <p:spPr>
                      <a:xfrm>
                        <a:off x="4050360" y="1651320"/>
                        <a:ext cx="118080" cy="1303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1800" rIns="91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9" name=""/>
                      <p:cNvSpPr/>
                      <p:nvPr/>
                    </p:nvSpPr>
                    <p:spPr>
                      <a:xfrm>
                        <a:off x="4005360" y="1557360"/>
                        <a:ext cx="18432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3984840" y="1602000"/>
                      <a:ext cx="241560" cy="21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3959280" y="2770200"/>
                    <a:ext cx="241560" cy="304920"/>
                    <a:chOff x="3959280" y="2770200"/>
                    <a:chExt cx="241560" cy="304920"/>
                  </a:xfrm>
                </p:grpSpPr>
                <p:grpSp>
                  <p:nvGrpSpPr>
                    <p:cNvPr id="542" name=""/>
                    <p:cNvGrpSpPr/>
                    <p:nvPr/>
                  </p:nvGrpSpPr>
                  <p:grpSpPr>
                    <a:xfrm>
                      <a:off x="3979800" y="2770200"/>
                      <a:ext cx="184320" cy="304920"/>
                      <a:chOff x="3979800" y="2770200"/>
                      <a:chExt cx="184320" cy="304920"/>
                    </a:xfrm>
                  </p:grpSpPr>
                  <p:sp>
                    <p:nvSpPr>
                      <p:cNvPr id="543" name=""/>
                      <p:cNvSpPr/>
                      <p:nvPr/>
                    </p:nvSpPr>
                    <p:spPr>
                      <a:xfrm>
                        <a:off x="4024800" y="2864160"/>
                        <a:ext cx="118080" cy="1303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1800" rIns="91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" name=""/>
                      <p:cNvSpPr/>
                      <p:nvPr/>
                    </p:nvSpPr>
                    <p:spPr>
                      <a:xfrm>
                        <a:off x="3979800" y="2770200"/>
                        <a:ext cx="18432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3959280" y="2814840"/>
                      <a:ext cx="241560" cy="21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3984840" y="3773520"/>
                    <a:ext cx="241560" cy="304920"/>
                    <a:chOff x="3984840" y="3773520"/>
                    <a:chExt cx="241560" cy="304920"/>
                  </a:xfrm>
                </p:grpSpPr>
                <p:grpSp>
                  <p:nvGrpSpPr>
                    <p:cNvPr id="547" name=""/>
                    <p:cNvGrpSpPr/>
                    <p:nvPr/>
                  </p:nvGrpSpPr>
                  <p:grpSpPr>
                    <a:xfrm>
                      <a:off x="4005360" y="3773520"/>
                      <a:ext cx="184320" cy="304920"/>
                      <a:chOff x="4005360" y="3773520"/>
                      <a:chExt cx="184320" cy="304920"/>
                    </a:xfrm>
                  </p:grpSpPr>
                  <p:sp>
                    <p:nvSpPr>
                      <p:cNvPr id="548" name=""/>
                      <p:cNvSpPr/>
                      <p:nvPr/>
                    </p:nvSpPr>
                    <p:spPr>
                      <a:xfrm>
                        <a:off x="4050360" y="3867480"/>
                        <a:ext cx="118080" cy="1303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1800" rIns="91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>
                        <a:off x="4005360" y="3773520"/>
                        <a:ext cx="18432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3984840" y="3818160"/>
                      <a:ext cx="241560" cy="21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1" name=""/>
                  <p:cNvSpPr/>
                  <p:nvPr/>
                </p:nvSpPr>
                <p:spPr>
                  <a:xfrm>
                    <a:off x="4691160" y="1306440"/>
                    <a:ext cx="18432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4410360" y="4992840"/>
                    <a:ext cx="241560" cy="304560"/>
                    <a:chOff x="4410360" y="4992840"/>
                    <a:chExt cx="241560" cy="304560"/>
                  </a:xfrm>
                </p:grpSpPr>
                <p:grpSp>
                  <p:nvGrpSpPr>
                    <p:cNvPr id="553" name=""/>
                    <p:cNvGrpSpPr/>
                    <p:nvPr/>
                  </p:nvGrpSpPr>
                  <p:grpSpPr>
                    <a:xfrm>
                      <a:off x="4430880" y="4992840"/>
                      <a:ext cx="184320" cy="304560"/>
                      <a:chOff x="4430880" y="4992840"/>
                      <a:chExt cx="184320" cy="304560"/>
                    </a:xfrm>
                  </p:grpSpPr>
                  <p:sp>
                    <p:nvSpPr>
                      <p:cNvPr id="554" name=""/>
                      <p:cNvSpPr/>
                      <p:nvPr/>
                    </p:nvSpPr>
                    <p:spPr>
                      <a:xfrm>
                        <a:off x="4475880" y="5086440"/>
                        <a:ext cx="118080" cy="12996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1800" rIns="91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5" name=""/>
                      <p:cNvSpPr/>
                      <p:nvPr/>
                    </p:nvSpPr>
                    <p:spPr>
                      <a:xfrm>
                        <a:off x="4430880" y="4992840"/>
                        <a:ext cx="184320" cy="304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4410360" y="5037120"/>
                      <a:ext cx="241560" cy="21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3845160" y="5367240"/>
                    <a:ext cx="241560" cy="304920"/>
                    <a:chOff x="3845160" y="5367240"/>
                    <a:chExt cx="241560" cy="304920"/>
                  </a:xfrm>
                </p:grpSpPr>
                <p:grpSp>
                  <p:nvGrpSpPr>
                    <p:cNvPr id="558" name=""/>
                    <p:cNvGrpSpPr/>
                    <p:nvPr/>
                  </p:nvGrpSpPr>
                  <p:grpSpPr>
                    <a:xfrm>
                      <a:off x="3865680" y="5367240"/>
                      <a:ext cx="184320" cy="304920"/>
                      <a:chOff x="3865680" y="5367240"/>
                      <a:chExt cx="184320" cy="304920"/>
                    </a:xfrm>
                  </p:grpSpPr>
                  <p:sp>
                    <p:nvSpPr>
                      <p:cNvPr id="559" name=""/>
                      <p:cNvSpPr/>
                      <p:nvPr/>
                    </p:nvSpPr>
                    <p:spPr>
                      <a:xfrm>
                        <a:off x="3910680" y="5461200"/>
                        <a:ext cx="118080" cy="1303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1800" rIns="91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0" name=""/>
                      <p:cNvSpPr/>
                      <p:nvPr/>
                    </p:nvSpPr>
                    <p:spPr>
                      <a:xfrm>
                        <a:off x="3865680" y="5367240"/>
                        <a:ext cx="18432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3845160" y="5411880"/>
                      <a:ext cx="241560" cy="21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2" name=""/>
                  <p:cNvSpPr/>
                  <p:nvPr/>
                </p:nvSpPr>
                <p:spPr>
                  <a:xfrm>
                    <a:off x="3768840" y="752400"/>
                    <a:ext cx="556920" cy="24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9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3" name=""/>
                <p:cNvSpPr/>
                <p:nvPr/>
              </p:nvSpPr>
              <p:spPr>
                <a:xfrm>
                  <a:off x="5902920" y="948240"/>
                  <a:ext cx="726120" cy="27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Oxidative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phosphorylation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>
                <a:off x="5716800" y="888120"/>
                <a:ext cx="358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itri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ci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yc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1661760" y="6171840"/>
              <a:ext cx="1206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9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loser look at the energy payoff ph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1914120" y="761760"/>
            <a:ext cx="3463920" cy="5652360"/>
            <a:chOff x="1914120" y="761760"/>
            <a:chExt cx="3463920" cy="5652360"/>
          </a:xfrm>
        </p:grpSpPr>
        <p:grpSp>
          <p:nvGrpSpPr>
            <p:cNvPr id="569" name=""/>
            <p:cNvGrpSpPr/>
            <p:nvPr/>
          </p:nvGrpSpPr>
          <p:grpSpPr>
            <a:xfrm>
              <a:off x="3200400" y="761760"/>
              <a:ext cx="2177640" cy="5588640"/>
              <a:chOff x="3200400" y="761760"/>
              <a:chExt cx="2177640" cy="5588640"/>
            </a:xfrm>
          </p:grpSpPr>
          <p:pic>
            <p:nvPicPr>
              <p:cNvPr id="5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785880"/>
                <a:ext cx="2114280" cy="55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3667680" y="828360"/>
                <a:ext cx="47628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 NAD</a:t>
                </a:r>
                <a:r>
                  <a:rPr b="0" lang="en-US" sz="7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700440" y="1142640"/>
                <a:ext cx="43668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8280" y="1137960"/>
                <a:ext cx="2336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688200" y="1250640"/>
                <a:ext cx="4291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+ 2 H</a:t>
                </a:r>
                <a:r>
                  <a:rPr b="0" lang="en-US" sz="7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251240" y="866520"/>
                <a:ext cx="863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riose phosphat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hydrogenas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379760" y="1112400"/>
                <a:ext cx="2336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466160" y="1103760"/>
                <a:ext cx="28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 </a:t>
                </a:r>
                <a:r>
                  <a:rPr b="0" lang="en-US" sz="7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740040" y="1396800"/>
                <a:ext cx="2336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828240" y="1479240"/>
                <a:ext cx="2444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126680" y="1474560"/>
                <a:ext cx="2491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127040" y="1612440"/>
                <a:ext cx="44568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HO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78000" y="1472760"/>
                <a:ext cx="2538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496400" y="1752120"/>
                <a:ext cx="2444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263840" y="1476000"/>
                <a:ext cx="2538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38920" y="1757880"/>
                <a:ext cx="34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7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40160" y="1765080"/>
                <a:ext cx="2538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84320" y="2558880"/>
                <a:ext cx="2336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125600" y="2549160"/>
                <a:ext cx="2826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7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638880" y="1871280"/>
                <a:ext cx="12517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, 3-Bisphosphoglycerat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25280" y="1968120"/>
                <a:ext cx="4410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 AD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665520" y="2314080"/>
                <a:ext cx="43056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 AT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257720" y="2144520"/>
                <a:ext cx="10706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hosphoglycerokinas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27760" y="2981880"/>
                <a:ext cx="34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7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340160" y="2984040"/>
                <a:ext cx="2538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490280" y="2984040"/>
                <a:ext cx="2444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797280" y="3511080"/>
                <a:ext cx="2336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120200" y="2711160"/>
                <a:ext cx="2491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129920" y="2841480"/>
                <a:ext cx="44568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HO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741120" y="3092040"/>
                <a:ext cx="10231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273920" y="3331800"/>
                <a:ext cx="11041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hosphoglyceromutas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127400" y="3490560"/>
                <a:ext cx="2826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7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128120" y="3654000"/>
                <a:ext cx="2491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131360" y="3792240"/>
                <a:ext cx="2491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120200" y="3937320"/>
                <a:ext cx="474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7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983760" y="3793680"/>
                <a:ext cx="2491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254480" y="3796920"/>
                <a:ext cx="2538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429800" y="3790800"/>
                <a:ext cx="2444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756960" y="4041360"/>
                <a:ext cx="10231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700800" y="4297680"/>
                <a:ext cx="419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 H</a:t>
                </a:r>
                <a:r>
                  <a:rPr b="0" lang="en-US" sz="7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794040" y="4451040"/>
                <a:ext cx="2336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117680" y="4425480"/>
                <a:ext cx="2826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7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275000" y="4279680"/>
                <a:ext cx="5036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nolas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120200" y="4584240"/>
                <a:ext cx="2491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128120" y="4717800"/>
                <a:ext cx="2491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267080" y="4584240"/>
                <a:ext cx="2538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423680" y="4711320"/>
                <a:ext cx="2444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257720" y="4723920"/>
                <a:ext cx="2538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125960" y="4856400"/>
                <a:ext cx="34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7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736440" y="4960440"/>
                <a:ext cx="110556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674520" y="5060520"/>
                <a:ext cx="4410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 AD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660480" y="5378040"/>
                <a:ext cx="43056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 AT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253400" y="5246280"/>
                <a:ext cx="8114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yruvate kinas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130280" y="5600520"/>
                <a:ext cx="2826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7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128120" y="5752800"/>
                <a:ext cx="2491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126680" y="5897160"/>
                <a:ext cx="2491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267080" y="5759280"/>
                <a:ext cx="2538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276440" y="5898960"/>
                <a:ext cx="2538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133880" y="6050520"/>
                <a:ext cx="34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7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797280" y="5613120"/>
                <a:ext cx="2336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4260600" y="761760"/>
                <a:ext cx="233640" cy="199080"/>
                <a:chOff x="4260600" y="761760"/>
                <a:chExt cx="233640" cy="199080"/>
              </a:xfrm>
            </p:grpSpPr>
            <p:grpSp>
              <p:nvGrpSpPr>
                <p:cNvPr id="631" name=""/>
                <p:cNvGrpSpPr/>
                <p:nvPr/>
              </p:nvGrpSpPr>
              <p:grpSpPr>
                <a:xfrm>
                  <a:off x="4278240" y="762120"/>
                  <a:ext cx="184320" cy="198360"/>
                  <a:chOff x="4278240" y="762120"/>
                  <a:chExt cx="184320" cy="19836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4323240" y="803520"/>
                    <a:ext cx="118080" cy="130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4278240" y="762120"/>
                    <a:ext cx="18432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4" name=""/>
                <p:cNvSpPr/>
                <p:nvPr/>
              </p:nvSpPr>
              <p:spPr>
                <a:xfrm>
                  <a:off x="4260600" y="761760"/>
                  <a:ext cx="233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4327560" y="3206520"/>
                <a:ext cx="233640" cy="199080"/>
                <a:chOff x="4327560" y="3206520"/>
                <a:chExt cx="233640" cy="19908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4344840" y="3206880"/>
                  <a:ext cx="183960" cy="198360"/>
                  <a:chOff x="4344840" y="3206880"/>
                  <a:chExt cx="183960" cy="19836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4389840" y="3248280"/>
                    <a:ext cx="117720" cy="130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344840" y="3206880"/>
                    <a:ext cx="18396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9" name=""/>
                <p:cNvSpPr/>
                <p:nvPr/>
              </p:nvSpPr>
              <p:spPr>
                <a:xfrm>
                  <a:off x="4327560" y="3206520"/>
                  <a:ext cx="233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8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4263840" y="2018880"/>
                <a:ext cx="233640" cy="199080"/>
                <a:chOff x="4263840" y="2018880"/>
                <a:chExt cx="233640" cy="19908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4281120" y="2019240"/>
                  <a:ext cx="183960" cy="198360"/>
                  <a:chOff x="4281120" y="2019240"/>
                  <a:chExt cx="183960" cy="19836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4326120" y="2060640"/>
                    <a:ext cx="117720" cy="130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4281120" y="2019240"/>
                    <a:ext cx="18396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4" name=""/>
                <p:cNvSpPr/>
                <p:nvPr/>
              </p:nvSpPr>
              <p:spPr>
                <a:xfrm>
                  <a:off x="4263840" y="2018880"/>
                  <a:ext cx="233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7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4263840" y="4158720"/>
                <a:ext cx="233640" cy="199080"/>
                <a:chOff x="4263840" y="4158720"/>
                <a:chExt cx="233640" cy="199080"/>
              </a:xfrm>
            </p:grpSpPr>
            <p:grpSp>
              <p:nvGrpSpPr>
                <p:cNvPr id="646" name=""/>
                <p:cNvGrpSpPr/>
                <p:nvPr/>
              </p:nvGrpSpPr>
              <p:grpSpPr>
                <a:xfrm>
                  <a:off x="4281120" y="4159080"/>
                  <a:ext cx="183960" cy="198360"/>
                  <a:chOff x="4281120" y="4159080"/>
                  <a:chExt cx="183960" cy="1983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>
                    <a:off x="4326120" y="4200480"/>
                    <a:ext cx="117720" cy="130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4281120" y="4159080"/>
                    <a:ext cx="18396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9" name=""/>
                <p:cNvSpPr/>
                <p:nvPr/>
              </p:nvSpPr>
              <p:spPr>
                <a:xfrm>
                  <a:off x="4263840" y="4158720"/>
                  <a:ext cx="233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9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4240080" y="5105160"/>
                <a:ext cx="282600" cy="199080"/>
                <a:chOff x="4240080" y="5105160"/>
                <a:chExt cx="282600" cy="199080"/>
              </a:xfrm>
            </p:grpSpPr>
            <p:grpSp>
              <p:nvGrpSpPr>
                <p:cNvPr id="651" name=""/>
                <p:cNvGrpSpPr/>
                <p:nvPr/>
              </p:nvGrpSpPr>
              <p:grpSpPr>
                <a:xfrm>
                  <a:off x="4281480" y="5105520"/>
                  <a:ext cx="184320" cy="198360"/>
                  <a:chOff x="4281480" y="5105520"/>
                  <a:chExt cx="184320" cy="19836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4326480" y="5146920"/>
                    <a:ext cx="118080" cy="130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4281480" y="5105520"/>
                    <a:ext cx="18432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4" name=""/>
                <p:cNvSpPr/>
                <p:nvPr/>
              </p:nvSpPr>
              <p:spPr>
                <a:xfrm>
                  <a:off x="4240080" y="5105160"/>
                  <a:ext cx="28260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>
                <a:off x="3981960" y="6151320"/>
                <a:ext cx="5569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284360" y="3657240"/>
                <a:ext cx="2538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914120" y="6108480"/>
              <a:ext cx="1206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8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9.3: The citric acid cycle completes the energy-yielding oxidation of organic molec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place in the matrix of the mitochond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fore the citric acid cycle can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ate must first be converted to acetyl CoA, which links the cycle to glyc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202760" y="2438280"/>
            <a:ext cx="7255080" cy="3988440"/>
            <a:chOff x="1202760" y="2438280"/>
            <a:chExt cx="7255080" cy="3988440"/>
          </a:xfrm>
        </p:grpSpPr>
        <p:grpSp>
          <p:nvGrpSpPr>
            <p:cNvPr id="663" name=""/>
            <p:cNvGrpSpPr/>
            <p:nvPr/>
          </p:nvGrpSpPr>
          <p:grpSpPr>
            <a:xfrm>
              <a:off x="2286000" y="2438280"/>
              <a:ext cx="6171840" cy="3883320"/>
              <a:chOff x="2286000" y="2438280"/>
              <a:chExt cx="6171840" cy="3883320"/>
            </a:xfrm>
          </p:grpSpPr>
          <p:pic>
            <p:nvPicPr>
              <p:cNvPr id="6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080" y="2438280"/>
                <a:ext cx="6062760" cy="388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5" name=""/>
              <p:cNvSpPr/>
              <p:nvPr/>
            </p:nvSpPr>
            <p:spPr>
              <a:xfrm>
                <a:off x="2612520" y="2444760"/>
                <a:ext cx="1094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YTOS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273360" y="2444760"/>
                <a:ext cx="13096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TOCHONDR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673600" y="3362040"/>
                <a:ext cx="5446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273360" y="3352320"/>
                <a:ext cx="546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+   H</a:t>
                </a:r>
                <a:r>
                  <a:rPr b="0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70760" y="3362040"/>
                <a:ext cx="1364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0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66080" y="3849120"/>
                <a:ext cx="545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192360" y="4776120"/>
                <a:ext cx="5446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404600" y="4776120"/>
                <a:ext cx="546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98440" y="5317200"/>
                <a:ext cx="54612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73600" y="5338800"/>
                <a:ext cx="8726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enzyme 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395080" y="5327640"/>
                <a:ext cx="873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301880" y="5076360"/>
                <a:ext cx="9831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cetyle Co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296120" y="3662280"/>
                <a:ext cx="3286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694640" y="3660840"/>
                <a:ext cx="4366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187040" y="4196160"/>
                <a:ext cx="5446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256520" y="4662000"/>
                <a:ext cx="54612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83040" y="4196160"/>
                <a:ext cx="548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286000" y="5851800"/>
                <a:ext cx="1474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 prote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3542400" y="4531680"/>
                <a:ext cx="803160" cy="137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598840" y="3557520"/>
                <a:ext cx="546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65320" y="4017240"/>
                <a:ext cx="546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957400" y="4476240"/>
                <a:ext cx="546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592000" y="3996720"/>
                <a:ext cx="5446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592000" y="4476240"/>
                <a:ext cx="5446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652120" y="4989600"/>
                <a:ext cx="54612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1202760" y="61210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verview of the citric acid cy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511000" y="1371600"/>
            <a:ext cx="4422960" cy="5136120"/>
            <a:chOff x="2511000" y="1371600"/>
            <a:chExt cx="4422960" cy="5136120"/>
          </a:xfrm>
        </p:grpSpPr>
        <p:grpSp>
          <p:nvGrpSpPr>
            <p:cNvPr id="694" name=""/>
            <p:cNvGrpSpPr/>
            <p:nvPr/>
          </p:nvGrpSpPr>
          <p:grpSpPr>
            <a:xfrm>
              <a:off x="2666880" y="1371600"/>
              <a:ext cx="4267080" cy="5029200"/>
              <a:chOff x="2666880" y="1371600"/>
              <a:chExt cx="4267080" cy="5029200"/>
            </a:xfrm>
          </p:grpSpPr>
          <p:pic>
            <p:nvPicPr>
              <p:cNvPr id="6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95320" y="1371600"/>
                <a:ext cx="3260160" cy="5029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6" name=""/>
              <p:cNvGrpSpPr/>
              <p:nvPr/>
            </p:nvGrpSpPr>
            <p:grpSpPr>
              <a:xfrm>
                <a:off x="2666880" y="1548360"/>
                <a:ext cx="4267080" cy="4743000"/>
                <a:chOff x="2666880" y="1548360"/>
                <a:chExt cx="4267080" cy="474300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4474440" y="6016320"/>
                  <a:ext cx="723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T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035760" y="4754880"/>
                  <a:ext cx="79560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 CO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139800" y="5079600"/>
                  <a:ext cx="723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 NAD</a:t>
                  </a:r>
                  <a:r>
                    <a:rPr b="0" lang="en-US" sz="10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911920" y="5380920"/>
                  <a:ext cx="8679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 NAD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055200" y="5598360"/>
                  <a:ext cx="723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 3 H</a:t>
                  </a:r>
                  <a:r>
                    <a:rPr b="0" lang="en-US" sz="10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849560" y="5751360"/>
                  <a:ext cx="1012680" cy="2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DP +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1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548520" y="5380920"/>
                  <a:ext cx="7218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A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462840" y="5080320"/>
                  <a:ext cx="7232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AD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463640" y="4458600"/>
                  <a:ext cx="11574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itric</a:t>
                  </a:r>
                  <a:br>
                    <a:rPr sz="1400"/>
                  </a:b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cid</a:t>
                  </a:r>
                  <a:br>
                    <a:rPr sz="1400"/>
                  </a:b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yc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052960" y="3702960"/>
                  <a:ext cx="723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712400" y="3360600"/>
                  <a:ext cx="7221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029480" y="3174480"/>
                  <a:ext cx="1374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cetyle Co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667680" y="2969640"/>
                  <a:ext cx="8679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AD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740040" y="3138120"/>
                  <a:ext cx="723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 3 H</a:t>
                  </a:r>
                  <a:r>
                    <a:rPr b="0" lang="en-US" sz="10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86720" y="2796840"/>
                  <a:ext cx="723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969800" y="2526120"/>
                  <a:ext cx="72360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666880" y="1548360"/>
                  <a:ext cx="26046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yruvate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(from glycolysis,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 molecules per glucose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837320" y="2287080"/>
                  <a:ext cx="72360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ATP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569920" y="2287080"/>
                  <a:ext cx="72360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ATP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210720" y="2288520"/>
                  <a:ext cx="7232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ATP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692600" y="1682280"/>
                  <a:ext cx="1012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lycolysi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580360" y="1699560"/>
                  <a:ext cx="72360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Citric</a:t>
                  </a:r>
                  <a:br>
                    <a:rPr sz="700"/>
                  </a:b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acid</a:t>
                  </a:r>
                  <a:br>
                    <a:rPr sz="700"/>
                  </a:b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cyc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091560" y="1712160"/>
                  <a:ext cx="807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Oxidative</a:t>
                  </a:r>
                  <a:br>
                    <a:rPr sz="700"/>
                  </a:b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hosphoryla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0" name=""/>
            <p:cNvSpPr/>
            <p:nvPr/>
          </p:nvSpPr>
          <p:spPr>
            <a:xfrm>
              <a:off x="2511000" y="62020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loser look at the citric acid cy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009680" y="327636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.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596600" y="685800"/>
            <a:ext cx="5414760" cy="5868000"/>
            <a:chOff x="1596600" y="685800"/>
            <a:chExt cx="5414760" cy="5868000"/>
          </a:xfrm>
        </p:grpSpPr>
        <p:grpSp>
          <p:nvGrpSpPr>
            <p:cNvPr id="725" name=""/>
            <p:cNvGrpSpPr/>
            <p:nvPr/>
          </p:nvGrpSpPr>
          <p:grpSpPr>
            <a:xfrm>
              <a:off x="2362320" y="685800"/>
              <a:ext cx="4649040" cy="5791320"/>
              <a:chOff x="2362320" y="685800"/>
              <a:chExt cx="4649040" cy="579132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2362320" y="685800"/>
                <a:ext cx="4649040" cy="5791320"/>
                <a:chOff x="2362320" y="685800"/>
                <a:chExt cx="4649040" cy="5791320"/>
              </a:xfrm>
            </p:grpSpPr>
            <p:grpSp>
              <p:nvGrpSpPr>
                <p:cNvPr id="727" name=""/>
                <p:cNvGrpSpPr/>
                <p:nvPr/>
              </p:nvGrpSpPr>
              <p:grpSpPr>
                <a:xfrm>
                  <a:off x="2362320" y="685800"/>
                  <a:ext cx="4649040" cy="5791320"/>
                  <a:chOff x="2362320" y="685800"/>
                  <a:chExt cx="4649040" cy="579132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2362320" y="685800"/>
                    <a:ext cx="4649040" cy="5791320"/>
                    <a:chOff x="2362320" y="685800"/>
                    <a:chExt cx="4649040" cy="5791320"/>
                  </a:xfrm>
                </p:grpSpPr>
                <p:pic>
                  <p:nvPicPr>
                    <p:cNvPr id="729" name="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384280" y="685800"/>
                      <a:ext cx="4413240" cy="579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4105440" y="1952640"/>
                      <a:ext cx="86004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yl C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3224160" y="2484000"/>
                      <a:ext cx="4366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3791160" y="2836800"/>
                      <a:ext cx="97308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aloacet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4761000" y="3274920"/>
                      <a:ext cx="58572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3435480" y="3236760"/>
                      <a:ext cx="57816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3531960" y="4303800"/>
                      <a:ext cx="75492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ma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3574440" y="5378400"/>
                      <a:ext cx="78228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in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4642560" y="5529240"/>
                      <a:ext cx="70488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iny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5945400" y="4463640"/>
                      <a:ext cx="106596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Ketoglutara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5679720" y="3416400"/>
                      <a:ext cx="74736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cit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4356000" y="3660840"/>
                      <a:ext cx="507960" cy="549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4239360" y="1520640"/>
                      <a:ext cx="24444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4398120" y="1520640"/>
                      <a:ext cx="35712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4580640" y="2179440"/>
                      <a:ext cx="35712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4817160" y="2179440"/>
                      <a:ext cx="30852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6222960" y="4132080"/>
                      <a:ext cx="50796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5484960" y="5382720"/>
                      <a:ext cx="50796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2963880" y="4997160"/>
                      <a:ext cx="495720" cy="230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r>
                        <a:rPr b="0" lang="en-US" sz="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3422160" y="5194080"/>
                      <a:ext cx="41364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4079520" y="5562360"/>
                      <a:ext cx="41976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T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4346640" y="5555880"/>
                      <a:ext cx="43200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5441760" y="5143320"/>
                      <a:ext cx="46404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3863520" y="5854320"/>
                      <a:ext cx="41976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" name=""/>
                    <p:cNvSpPr/>
                    <p:nvPr/>
                  </p:nvSpPr>
                  <p:spPr>
                    <a:xfrm>
                      <a:off x="4583880" y="5387040"/>
                      <a:ext cx="284040" cy="248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6156000" y="3885840"/>
                      <a:ext cx="46404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5934240" y="5052960"/>
                      <a:ext cx="370800" cy="230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6231240" y="3643200"/>
                      <a:ext cx="370800" cy="230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>
                      <a:off x="5085720" y="4363920"/>
                      <a:ext cx="35712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5334480" y="4370040"/>
                      <a:ext cx="30852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>
                      <a:off x="4234680" y="4782960"/>
                      <a:ext cx="35712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4483800" y="4776480"/>
                      <a:ext cx="30852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4936320" y="5392440"/>
                      <a:ext cx="35712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>
                      <a:off x="4785480" y="5398920"/>
                      <a:ext cx="24444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>
                      <a:off x="2641320" y="3812760"/>
                      <a:ext cx="392760" cy="385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>
                      <a:off x="5531760" y="5524200"/>
                      <a:ext cx="40464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H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" name=""/>
                    <p:cNvSpPr/>
                    <p:nvPr/>
                  </p:nvSpPr>
                  <p:spPr>
                    <a:xfrm>
                      <a:off x="3247920" y="2607840"/>
                      <a:ext cx="3556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H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5567040" y="2428200"/>
                      <a:ext cx="392760" cy="385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4250520" y="1665000"/>
                      <a:ext cx="24912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4261320" y="1823040"/>
                      <a:ext cx="3420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>
                      <a:off x="4413240" y="1671480"/>
                      <a:ext cx="25380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>
                      <a:off x="3908520" y="2452320"/>
                      <a:ext cx="25380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>
                      <a:off x="4069800" y="2452320"/>
                      <a:ext cx="24912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4205880" y="245232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4078440" y="2584800"/>
                      <a:ext cx="3420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4" name=""/>
                    <p:cNvSpPr/>
                    <p:nvPr/>
                  </p:nvSpPr>
                  <p:spPr>
                    <a:xfrm>
                      <a:off x="4075560" y="274608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4913640" y="257940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>
                      <a:off x="4915080" y="2730960"/>
                      <a:ext cx="3420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4684680" y="2884320"/>
                      <a:ext cx="31752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>
                      <a:off x="4904640" y="2871360"/>
                      <a:ext cx="24912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5085360" y="287784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0" name=""/>
                    <p:cNvSpPr/>
                    <p:nvPr/>
                  </p:nvSpPr>
                  <p:spPr>
                    <a:xfrm>
                      <a:off x="4907160" y="3016800"/>
                      <a:ext cx="3420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>
                      <a:off x="4905720" y="317628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>
                      <a:off x="5916960" y="333504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" name=""/>
                    <p:cNvSpPr/>
                    <p:nvPr/>
                  </p:nvSpPr>
                  <p:spPr>
                    <a:xfrm>
                      <a:off x="5910840" y="273168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>
                      <a:off x="5912280" y="2889720"/>
                      <a:ext cx="3420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>
                      <a:off x="5841000" y="3043080"/>
                      <a:ext cx="31320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6048720" y="304308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>
                      <a:off x="5686560" y="3182760"/>
                      <a:ext cx="31752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>
                      <a:off x="5914080" y="3182760"/>
                      <a:ext cx="31320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9" name=""/>
                    <p:cNvSpPr/>
                    <p:nvPr/>
                  </p:nvSpPr>
                  <p:spPr>
                    <a:xfrm>
                      <a:off x="3156480" y="307152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>
                      <a:off x="3153240" y="3230280"/>
                      <a:ext cx="31320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>
                      <a:off x="3154680" y="3366000"/>
                      <a:ext cx="3420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3162600" y="352548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>
                      <a:off x="2938320" y="3230280"/>
                      <a:ext cx="31752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3297600" y="410328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3288240" y="4262040"/>
                      <a:ext cx="31320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>
                      <a:off x="3226320" y="4414680"/>
                      <a:ext cx="31320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3285000" y="456048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>
                      <a:off x="3842280" y="481932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3849840" y="5113800"/>
                      <a:ext cx="3420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3849840" y="4970880"/>
                      <a:ext cx="3420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3843720" y="527004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4788360" y="480204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4777200" y="5105880"/>
                      <a:ext cx="3420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4786560" y="4953600"/>
                      <a:ext cx="3420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>
                      <a:off x="4784040" y="5252760"/>
                      <a:ext cx="24912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4927680" y="5252760"/>
                      <a:ext cx="25380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5726520" y="419868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5723280" y="4489920"/>
                      <a:ext cx="3420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>
                      <a:off x="5723280" y="4343760"/>
                      <a:ext cx="3420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>
                      <a:off x="5725440" y="4636800"/>
                      <a:ext cx="24912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5877000" y="4636800"/>
                      <a:ext cx="25380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5725080" y="4789080"/>
                      <a:ext cx="415080" cy="199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4488840" y="2571480"/>
                      <a:ext cx="24912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5365080" y="2952360"/>
                      <a:ext cx="24912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5707800" y="3765240"/>
                      <a:ext cx="24912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>
                      <a:off x="5428440" y="4679640"/>
                      <a:ext cx="24912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4304520" y="4971600"/>
                      <a:ext cx="24912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3644280" y="4730400"/>
                      <a:ext cx="24912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3199680" y="3879360"/>
                      <a:ext cx="24912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3663360" y="2869920"/>
                      <a:ext cx="24912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2362320" y="946080"/>
                      <a:ext cx="528120" cy="183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ycolysi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3292920" y="935280"/>
                      <a:ext cx="726120" cy="275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v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sphorylat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2981160" y="2761920"/>
                      <a:ext cx="464040" cy="229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4" name=""/>
                  <p:cNvSpPr/>
                  <p:nvPr/>
                </p:nvSpPr>
                <p:spPr>
                  <a:xfrm>
                    <a:off x="6279840" y="4267080"/>
                    <a:ext cx="355680" cy="199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+ H</a:t>
                    </a:r>
                    <a:r>
                      <a:rPr b="0" lang="en-US" sz="7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5" name=""/>
                <p:cNvSpPr/>
                <p:nvPr/>
              </p:nvSpPr>
              <p:spPr>
                <a:xfrm>
                  <a:off x="4107960" y="6102000"/>
                  <a:ext cx="40752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TP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>
                <a:off x="3044880" y="902520"/>
                <a:ext cx="358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itri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ci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yc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1596600" y="624816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9.4: During oxidative phosphorylation, chemiosmosis couples electron transport to ATP syn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DH and FAD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ate electrons to the electron transport chain, which powers ATP synthesis via oxidative phosphory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Pathway of Electron Transpor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electron transport ch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from NADH and FAD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e energy in several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s into an ecosystem as sunlight and leaves as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739600" y="2120400"/>
            <a:ext cx="4956480" cy="4348440"/>
            <a:chOff x="2739600" y="2120400"/>
            <a:chExt cx="4956480" cy="4348440"/>
          </a:xfrm>
        </p:grpSpPr>
        <p:grpSp>
          <p:nvGrpSpPr>
            <p:cNvPr id="181" name=""/>
            <p:cNvGrpSpPr/>
            <p:nvPr/>
          </p:nvGrpSpPr>
          <p:grpSpPr>
            <a:xfrm>
              <a:off x="3948120" y="2120400"/>
              <a:ext cx="3747960" cy="4348440"/>
              <a:chOff x="3948120" y="2120400"/>
              <a:chExt cx="3747960" cy="4348440"/>
            </a:xfrm>
          </p:grpSpPr>
          <p:pic>
            <p:nvPicPr>
              <p:cNvPr id="1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48120" y="2123280"/>
                <a:ext cx="3747960" cy="434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352400" y="2120400"/>
                <a:ext cx="1100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ight ener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004280" y="2757960"/>
                <a:ext cx="1143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COSYSTE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300560" y="3762360"/>
                <a:ext cx="91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+ 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160960" y="3428280"/>
                <a:ext cx="13219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tosynthesi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 chloroplas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077440" y="3832200"/>
                <a:ext cx="14850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llular respiration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 mitochondr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220080" y="3670920"/>
                <a:ext cx="12315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ganic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lecu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64640" y="3762360"/>
                <a:ext cx="5587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+ O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91160" y="5270400"/>
                <a:ext cx="493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53240" y="5578200"/>
                <a:ext cx="204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owers most cellular work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29040" y="5828760"/>
                <a:ext cx="68328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eat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2739600" y="607032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he end of the ch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are passed to oxygen, forming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206080" y="2031840"/>
            <a:ext cx="3356640" cy="4445640"/>
            <a:chOff x="2206080" y="2031840"/>
            <a:chExt cx="3356640" cy="4445640"/>
          </a:xfrm>
        </p:grpSpPr>
        <p:grpSp>
          <p:nvGrpSpPr>
            <p:cNvPr id="835" name=""/>
            <p:cNvGrpSpPr/>
            <p:nvPr/>
          </p:nvGrpSpPr>
          <p:grpSpPr>
            <a:xfrm>
              <a:off x="3138120" y="2031840"/>
              <a:ext cx="2424600" cy="4410720"/>
              <a:chOff x="3138120" y="2031840"/>
              <a:chExt cx="2424600" cy="4410720"/>
            </a:xfrm>
          </p:grpSpPr>
          <p:pic>
            <p:nvPicPr>
              <p:cNvPr id="8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83280" y="2031840"/>
                <a:ext cx="2021400" cy="440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7" name=""/>
              <p:cNvSpPr/>
              <p:nvPr/>
            </p:nvSpPr>
            <p:spPr>
              <a:xfrm>
                <a:off x="5076000" y="6229080"/>
                <a:ext cx="486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7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989600" y="5804280"/>
                <a:ext cx="487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7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492360" y="2883960"/>
                <a:ext cx="5864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037040" y="3303000"/>
                <a:ext cx="58536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ADH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403800" y="3601080"/>
                <a:ext cx="5839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M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601800" y="3733200"/>
                <a:ext cx="58536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•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895920" y="3723480"/>
                <a:ext cx="58536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•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177080" y="4110840"/>
                <a:ext cx="58356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•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97280" y="3875400"/>
                <a:ext cx="5864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002480" y="3584880"/>
                <a:ext cx="5832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A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986280" y="3987000"/>
                <a:ext cx="58428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yt </a:t>
                </a: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372560" y="4236840"/>
                <a:ext cx="583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yt </a:t>
                </a: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7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562640" y="4376160"/>
                <a:ext cx="58536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yt </a:t>
                </a: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748760" y="4504320"/>
                <a:ext cx="58716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yt </a:t>
                </a: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941360" y="4624200"/>
                <a:ext cx="58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yt </a:t>
                </a: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7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635720" y="5820480"/>
                <a:ext cx="585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 H </a:t>
                </a:r>
                <a:r>
                  <a:rPr b="0" lang="en-US" sz="700" spc="-1" strike="noStrike" baseline="30000">
                    <a:solidFill>
                      <a:srgbClr val="000000"/>
                    </a:solidFill>
                    <a:latin typeface="Arial"/>
                  </a:rPr>
                  <a:t>+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+ </a:t>
                </a:r>
                <a:r>
                  <a:rPr b="0" lang="en-US" sz="7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</a:t>
                </a:r>
                <a:r>
                  <a:rPr b="0" lang="en-US" sz="7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84600" y="3537720"/>
                <a:ext cx="5832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065480" y="3691800"/>
                <a:ext cx="5864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308480" y="3925080"/>
                <a:ext cx="5893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I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941360" y="4334760"/>
                <a:ext cx="5893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518000" y="3498120"/>
                <a:ext cx="8506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ultiprotein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plex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207600" y="5809320"/>
                <a:ext cx="582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182400" y="5223600"/>
                <a:ext cx="5853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88520" y="4674960"/>
                <a:ext cx="5853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187440" y="4109040"/>
                <a:ext cx="5864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187440" y="3558960"/>
                <a:ext cx="5864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187440" y="2996640"/>
                <a:ext cx="5864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190240" y="4375080"/>
                <a:ext cx="214380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ee energy (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 relative to O</a:t>
                </a:r>
                <a:r>
                  <a:rPr b="0" lang="en-US" sz="9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kcl/mol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2206080" y="61718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hemiosmosis: The Energy-Coupling Mechanism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P synth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enzyme that actually makes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1215720" y="2073240"/>
            <a:ext cx="5718600" cy="4442400"/>
            <a:chOff x="1215720" y="2073240"/>
            <a:chExt cx="5718600" cy="4442400"/>
          </a:xfrm>
        </p:grpSpPr>
        <p:grpSp>
          <p:nvGrpSpPr>
            <p:cNvPr id="869" name=""/>
            <p:cNvGrpSpPr/>
            <p:nvPr/>
          </p:nvGrpSpPr>
          <p:grpSpPr>
            <a:xfrm>
              <a:off x="2362320" y="2073240"/>
              <a:ext cx="4572000" cy="4425480"/>
              <a:chOff x="2362320" y="2073240"/>
              <a:chExt cx="4572000" cy="4425480"/>
            </a:xfrm>
          </p:grpSpPr>
          <p:grpSp>
            <p:nvGrpSpPr>
              <p:cNvPr id="870" name=""/>
              <p:cNvGrpSpPr/>
              <p:nvPr/>
            </p:nvGrpSpPr>
            <p:grpSpPr>
              <a:xfrm>
                <a:off x="2362320" y="2073240"/>
                <a:ext cx="4572000" cy="4425480"/>
                <a:chOff x="2362320" y="2073240"/>
                <a:chExt cx="4572000" cy="4425480"/>
              </a:xfrm>
            </p:grpSpPr>
            <p:pic>
              <p:nvPicPr>
                <p:cNvPr id="87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85440" y="2073240"/>
                  <a:ext cx="2799360" cy="434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72" name=""/>
                <p:cNvGrpSpPr/>
                <p:nvPr/>
              </p:nvGrpSpPr>
              <p:grpSpPr>
                <a:xfrm>
                  <a:off x="2362320" y="2078280"/>
                  <a:ext cx="4572000" cy="4420440"/>
                  <a:chOff x="2362320" y="2078280"/>
                  <a:chExt cx="4572000" cy="442044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2380320" y="2093400"/>
                    <a:ext cx="193608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INTERMEMBRANE SPAC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74" name=""/>
                  <p:cNvGrpSpPr/>
                  <p:nvPr/>
                </p:nvGrpSpPr>
                <p:grpSpPr>
                  <a:xfrm>
                    <a:off x="2362320" y="2078280"/>
                    <a:ext cx="4572000" cy="4420440"/>
                    <a:chOff x="2362320" y="2078280"/>
                    <a:chExt cx="4572000" cy="4420440"/>
                  </a:xfrm>
                </p:grpSpPr>
                <p:sp>
                  <p:nvSpPr>
                    <p:cNvPr id="875" name=""/>
                    <p:cNvSpPr/>
                    <p:nvPr/>
                  </p:nvSpPr>
                  <p:spPr>
                    <a:xfrm>
                      <a:off x="2362320" y="2363040"/>
                      <a:ext cx="6462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2676960" y="3090240"/>
                      <a:ext cx="6444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>
                      <a:off x="3124080" y="2370960"/>
                      <a:ext cx="6462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4102200" y="2178720"/>
                      <a:ext cx="6444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3456000" y="3021840"/>
                      <a:ext cx="6462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3886200" y="2682000"/>
                      <a:ext cx="64656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4639320" y="2626200"/>
                      <a:ext cx="64512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4728600" y="4942800"/>
                      <a:ext cx="6444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2676960" y="5827320"/>
                      <a:ext cx="644400" cy="299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2622240" y="5682600"/>
                      <a:ext cx="645120" cy="27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2648880" y="5508000"/>
                      <a:ext cx="645120" cy="27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4584240" y="5798160"/>
                      <a:ext cx="646560" cy="27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5338440" y="2163600"/>
                      <a:ext cx="0" cy="9313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5338440" y="3269520"/>
                      <a:ext cx="0" cy="6501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5338440" y="4201200"/>
                      <a:ext cx="0" cy="9309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5338440" y="5307120"/>
                      <a:ext cx="0" cy="9313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5373360" y="2078280"/>
                      <a:ext cx="1399680" cy="1096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2160" rIns="92160" tIns="46080" bIns="4608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o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in the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rane spins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ckwise whe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s past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t down the H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ien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5373360" y="3228840"/>
                      <a:ext cx="1560960" cy="76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2160" rIns="92160" tIns="46080" bIns="4608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or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e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membran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s the knob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ar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5373360" y="4119120"/>
                      <a:ext cx="1560960" cy="1096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2160" rIns="92160" tIns="46080" bIns="4608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“stalk”)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ing into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knob also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s, activating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lytic sites 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knob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5373360" y="5234400"/>
                      <a:ext cx="1560960" cy="1264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2160" rIns="92160" tIns="46080" bIns="4608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e catalytic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s in the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ary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b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 inorganic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sphate to ADP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make ATP.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 flipV="1">
                      <a:off x="4047480" y="2727360"/>
                      <a:ext cx="1281960" cy="1133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 flipV="1">
                      <a:off x="3814560" y="4725000"/>
                      <a:ext cx="1505880" cy="260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4191120" y="5393160"/>
                      <a:ext cx="1129320" cy="204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898" name=""/>
              <p:cNvSpPr/>
              <p:nvPr/>
            </p:nvSpPr>
            <p:spPr>
              <a:xfrm>
                <a:off x="2380320" y="6174720"/>
                <a:ext cx="19360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TOCHONDRIAL MATRI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>
              <a:off x="1215720" y="62100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certain steps along the electron transport ch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transfer causes protein complexes to pump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mitochondrial matrix to the intermembran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7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ulting H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ad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s chemiosmosis in ATP synt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referred to as a proton-motiv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miosm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energy-coupling mechanism that uses energy in the form of a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ient across a membrane to drive cellula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 algn="ctr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miosmosis and the electron transport ch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28040" y="1371600"/>
            <a:ext cx="8414640" cy="5093280"/>
            <a:chOff x="428040" y="1371600"/>
            <a:chExt cx="8414640" cy="5093280"/>
          </a:xfrm>
        </p:grpSpPr>
        <p:grpSp>
          <p:nvGrpSpPr>
            <p:cNvPr id="909" name=""/>
            <p:cNvGrpSpPr/>
            <p:nvPr/>
          </p:nvGrpSpPr>
          <p:grpSpPr>
            <a:xfrm>
              <a:off x="471240" y="1371600"/>
              <a:ext cx="8371440" cy="5028840"/>
              <a:chOff x="471240" y="1371600"/>
              <a:chExt cx="8371440" cy="5028840"/>
            </a:xfrm>
          </p:grpSpPr>
          <p:pic>
            <p:nvPicPr>
              <p:cNvPr id="9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422360"/>
                <a:ext cx="7703640" cy="492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1" name=""/>
              <p:cNvSpPr/>
              <p:nvPr/>
            </p:nvSpPr>
            <p:spPr>
              <a:xfrm>
                <a:off x="2111400" y="1756800"/>
                <a:ext cx="8190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xidativ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hosphorylation.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lectron transpor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nd chemiosmosi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12520" y="1798200"/>
                <a:ext cx="7048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lycolysi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019880" y="2435040"/>
                <a:ext cx="33300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756440" y="2439720"/>
                <a:ext cx="33300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386800" y="2444760"/>
                <a:ext cx="33300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749360" y="1371600"/>
                <a:ext cx="109332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n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itochondri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mbra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10600" y="2954160"/>
                <a:ext cx="346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244040" y="2649240"/>
                <a:ext cx="346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744520" y="2522160"/>
                <a:ext cx="346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230240" y="3093840"/>
                <a:ext cx="346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228800" y="5290920"/>
                <a:ext cx="346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633440" y="4935240"/>
                <a:ext cx="48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866280" y="4947840"/>
                <a:ext cx="30852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 </a:t>
                </a:r>
                <a:r>
                  <a:rPr b="0" lang="en-US" sz="9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753200" y="3276360"/>
                <a:ext cx="128088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tein compl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electro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rn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798440" y="3187440"/>
                <a:ext cx="532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yt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782440" y="4020840"/>
                <a:ext cx="227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87320" y="43765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128480" y="4082760"/>
                <a:ext cx="313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69840" y="3778200"/>
                <a:ext cx="329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774080" y="5149800"/>
                <a:ext cx="1474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Carrying electr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om, foo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257200" y="4894200"/>
                <a:ext cx="507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495240" y="4586040"/>
                <a:ext cx="495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285000" y="4910040"/>
                <a:ext cx="558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71440" y="4692600"/>
                <a:ext cx="541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AD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930200" y="4667040"/>
                <a:ext cx="957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 H</a:t>
                </a:r>
                <a:r>
                  <a:rPr b="0" lang="en-US" sz="11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+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 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142320" y="451260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279480" y="4946400"/>
                <a:ext cx="630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DP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659680" y="5544360"/>
                <a:ext cx="329724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Electron transport chai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lectron transport and pumping of protons (H</a:t>
                </a:r>
                <a:r>
                  <a:rPr b="0" lang="en-US" sz="11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hich create an H</a:t>
                </a:r>
                <a:r>
                  <a:rPr b="0" lang="en-US" sz="11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gradient across the membran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85280" y="5536440"/>
                <a:ext cx="236592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hemiosmosi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TP synthesis powered by the flow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f H</a:t>
                </a:r>
                <a:r>
                  <a:rPr b="0" lang="en-US" sz="11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back across the membran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16200000">
                <a:off x="4262040" y="4211640"/>
                <a:ext cx="123840" cy="2704680"/>
              </a:xfrm>
              <a:custGeom>
                <a:avLst/>
                <a:gdLst>
                  <a:gd name="textAreaLeft" fmla="*/ 79200 w 123840"/>
                  <a:gd name="textAreaRight" fmla="*/ 124200 w 123840"/>
                  <a:gd name="textAreaTop" fmla="*/ 70200 h 2704680"/>
                  <a:gd name="textAreaBottom" fmla="*/ 2634480 h 2704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6200000">
                <a:off x="7094160" y="4214520"/>
                <a:ext cx="123840" cy="2704680"/>
              </a:xfrm>
              <a:custGeom>
                <a:avLst/>
                <a:gdLst>
                  <a:gd name="textAreaLeft" fmla="*/ 79200 w 123840"/>
                  <a:gd name="textAreaRight" fmla="*/ 124200 w 123840"/>
                  <a:gd name="textAreaTop" fmla="*/ 70200 h 2704680"/>
                  <a:gd name="textAreaBottom" fmla="*/ 2634480 h 2704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96520" y="4235400"/>
                <a:ext cx="7977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ynt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6200000">
                <a:off x="5307480" y="3283560"/>
                <a:ext cx="242640" cy="5663880"/>
              </a:xfrm>
              <a:custGeom>
                <a:avLst/>
                <a:gdLst>
                  <a:gd name="textAreaLeft" fmla="*/ 155160 w 242640"/>
                  <a:gd name="textAreaRight" fmla="*/ 243000 w 242640"/>
                  <a:gd name="textAreaTop" fmla="*/ 147600 h 5663880"/>
                  <a:gd name="textAreaBottom" fmla="*/ 5516280 h 566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639240" y="3739680"/>
                <a:ext cx="3236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698720" y="6140520"/>
                <a:ext cx="19544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Oxidative phosphorylat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676160" y="2787480"/>
                <a:ext cx="75960" cy="1523880"/>
              </a:xfrm>
              <a:custGeom>
                <a:avLst/>
                <a:gdLst>
                  <a:gd name="textAreaLeft" fmla="*/ 48600 w 75960"/>
                  <a:gd name="textAreaRight" fmla="*/ 76320 w 75960"/>
                  <a:gd name="textAreaTop" fmla="*/ 39600 h 1523880"/>
                  <a:gd name="textAreaBottom" fmla="*/ 1484280 h 152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676160" y="4387680"/>
                <a:ext cx="87120" cy="692280"/>
              </a:xfrm>
              <a:custGeom>
                <a:avLst/>
                <a:gdLst>
                  <a:gd name="textAreaLeft" fmla="*/ 55800 w 87120"/>
                  <a:gd name="textAreaRight" fmla="*/ 87480 w 87120"/>
                  <a:gd name="textAreaTop" fmla="*/ 18000 h 692280"/>
                  <a:gd name="textAreaBottom" fmla="*/ 674280 h 69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676160" y="5073480"/>
                <a:ext cx="75960" cy="1219320"/>
              </a:xfrm>
              <a:custGeom>
                <a:avLst/>
                <a:gdLst>
                  <a:gd name="textAreaLeft" fmla="*/ 48600 w 75960"/>
                  <a:gd name="textAreaRight" fmla="*/ 7632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71240" y="3384360"/>
                <a:ext cx="12214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ermembra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0480" y="4349520"/>
                <a:ext cx="10933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n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itochondri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mbra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0480" y="5454360"/>
                <a:ext cx="1093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itochondri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tri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368440" y="380340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613640" y="436212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428040" y="6159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 Accounting of ATP Production by Cellular Respi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04920" y="1079280"/>
            <a:ext cx="8534160" cy="22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ing respiration, most energy flows in this sequ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 to NADH to electron transport chain to proton-motive force t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hree main processes in this metabolic enterpr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301320" y="1727280"/>
            <a:ext cx="8080200" cy="4800960"/>
            <a:chOff x="301320" y="1727280"/>
            <a:chExt cx="8080200" cy="4800960"/>
          </a:xfrm>
        </p:grpSpPr>
        <p:grpSp>
          <p:nvGrpSpPr>
            <p:cNvPr id="960" name=""/>
            <p:cNvGrpSpPr/>
            <p:nvPr/>
          </p:nvGrpSpPr>
          <p:grpSpPr>
            <a:xfrm>
              <a:off x="360360" y="1727280"/>
              <a:ext cx="8021160" cy="4521240"/>
              <a:chOff x="360360" y="1727280"/>
              <a:chExt cx="8021160" cy="4521240"/>
            </a:xfrm>
          </p:grpSpPr>
          <p:pic>
            <p:nvPicPr>
              <p:cNvPr id="9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5720" y="1727280"/>
                <a:ext cx="7975800" cy="452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2" name=""/>
              <p:cNvSpPr/>
              <p:nvPr/>
            </p:nvSpPr>
            <p:spPr>
              <a:xfrm>
                <a:off x="1268640" y="1754280"/>
                <a:ext cx="122148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lectron shuttl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pan membran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60360" y="1817640"/>
                <a:ext cx="915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YTOSO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998440" y="1883160"/>
                <a:ext cx="696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 NAD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015360" y="2213280"/>
                <a:ext cx="67572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FADH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024360" y="2581200"/>
                <a:ext cx="648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NAD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889520" y="2592360"/>
                <a:ext cx="683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 NADH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672880" y="2569680"/>
                <a:ext cx="67572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FADH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225440" y="2581200"/>
                <a:ext cx="648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NAD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084320" y="3112920"/>
                <a:ext cx="951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lycoly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07040" y="3482640"/>
                <a:ext cx="745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651680" y="3295800"/>
                <a:ext cx="7884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160080" y="3234600"/>
                <a:ext cx="52956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ety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226400" y="3192120"/>
                <a:ext cx="57528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itr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y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180840" y="313668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Oxid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hosphorylation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lectron 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hemiosmosi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575320" y="1771560"/>
                <a:ext cx="1504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ITOCHONDR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227240" y="4709880"/>
                <a:ext cx="13827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 substrate-lev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hosphoryl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218840" y="4713120"/>
                <a:ext cx="128376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y substrate-leve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hosphorylat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423040" y="4698720"/>
                <a:ext cx="268272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y oxidative phosphorylation, dependi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n which shuttle transports electron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rom NADH in cytosol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142360" y="5667840"/>
                <a:ext cx="1721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ximum per glucos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927960" y="5533200"/>
                <a:ext cx="101088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bo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6 or 38 AT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161360" y="4502880"/>
                <a:ext cx="741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+ 2 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170600" y="4515120"/>
                <a:ext cx="741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+ 2 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92400" y="4518000"/>
                <a:ext cx="1645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+ about 32 or 34 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400120" y="1994400"/>
                <a:ext cx="343440" cy="35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400120" y="1994400"/>
                <a:ext cx="332280" cy="57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186360" y="202248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>
              <a:off x="301320" y="62226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40% of the energy in a glucose molec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ansferred to ATP during cellular respiration, making approximately 38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9.5: Fermentation enables some cells to produce ATP without the use of oxy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es on oxygen to produc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absence of oxy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can still produce ATP through fer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9.1: Catabolic pathways yield energy by oxidizing organic fu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duce ATP with or without oxygen, in aerobic or anaerobic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es with fermentation to produc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ypes of Ferment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rmentation consists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lysis plus reactions that regenerate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can be reused by glyoc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lcohol fer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ate is converted to ethanol in two steps, one of which release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ing lactic acid fer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ate is reduced directly to NADH to form lactate as a wast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"/>
          <p:cNvGrpSpPr/>
          <p:nvPr/>
        </p:nvGrpSpPr>
        <p:grpSpPr>
          <a:xfrm>
            <a:off x="1368000" y="939960"/>
            <a:ext cx="4384800" cy="5499360"/>
            <a:chOff x="1368000" y="939960"/>
            <a:chExt cx="4384800" cy="5499360"/>
          </a:xfrm>
        </p:grpSpPr>
        <p:grpSp>
          <p:nvGrpSpPr>
            <p:cNvPr id="1002" name=""/>
            <p:cNvGrpSpPr/>
            <p:nvPr/>
          </p:nvGrpSpPr>
          <p:grpSpPr>
            <a:xfrm>
              <a:off x="2513880" y="939960"/>
              <a:ext cx="3238920" cy="5410080"/>
              <a:chOff x="2513880" y="939960"/>
              <a:chExt cx="3238920" cy="5410080"/>
            </a:xfrm>
          </p:grpSpPr>
          <p:grpSp>
            <p:nvGrpSpPr>
              <p:cNvPr id="1003" name=""/>
              <p:cNvGrpSpPr/>
              <p:nvPr/>
            </p:nvGrpSpPr>
            <p:grpSpPr>
              <a:xfrm>
                <a:off x="2513880" y="939960"/>
                <a:ext cx="3238920" cy="5410080"/>
                <a:chOff x="2513880" y="939960"/>
                <a:chExt cx="3238920" cy="5410080"/>
              </a:xfrm>
            </p:grpSpPr>
            <p:pic>
              <p:nvPicPr>
                <p:cNvPr id="100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562120" y="939960"/>
                  <a:ext cx="3184200" cy="5410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5" name=""/>
                <p:cNvSpPr/>
                <p:nvPr/>
              </p:nvSpPr>
              <p:spPr>
                <a:xfrm>
                  <a:off x="2940120" y="1120320"/>
                  <a:ext cx="762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 ADP +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692880" y="1095480"/>
                  <a:ext cx="30996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187160" y="1105920"/>
                  <a:ext cx="535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 AT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628080" y="1614240"/>
                  <a:ext cx="7567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lycolysi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2541960" y="1603080"/>
                  <a:ext cx="6498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lucos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287520" y="2187000"/>
                  <a:ext cx="599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 NAD</a:t>
                  </a:r>
                  <a:r>
                    <a:rPr b="0" lang="en-US" sz="10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192560" y="2172960"/>
                  <a:ext cx="6483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 NAD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962600" y="1958400"/>
                  <a:ext cx="790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 Pyruva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682880" y="3101400"/>
                  <a:ext cx="10551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 Acetaldehy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2605680" y="3101400"/>
                  <a:ext cx="7869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_x0008__x0008__x0008_2 Ethano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2518920" y="3314160"/>
                  <a:ext cx="1643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a) Alcohol ferment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2934000" y="3895200"/>
                  <a:ext cx="762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 ADP +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686400" y="3870720"/>
                  <a:ext cx="30996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181040" y="3881160"/>
                  <a:ext cx="535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 AT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621600" y="4389120"/>
                  <a:ext cx="7567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lycolysi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2535480" y="4377960"/>
                  <a:ext cx="6498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lucos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281040" y="4962240"/>
                  <a:ext cx="599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 NAD</a:t>
                  </a:r>
                  <a:r>
                    <a:rPr b="0" lang="en-US" sz="10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186080" y="4947840"/>
                  <a:ext cx="6483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 NAD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2684160" y="5871600"/>
                  <a:ext cx="7048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 Lacta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2513880" y="6086160"/>
                  <a:ext cx="18399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b) Lactic acid ferment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2844360" y="2480760"/>
                  <a:ext cx="276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2631600" y="2682360"/>
                  <a:ext cx="276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3055320" y="2685600"/>
                  <a:ext cx="375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2804040" y="2881440"/>
                  <a:ext cx="40896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2841120" y="2684160"/>
                  <a:ext cx="276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823640" y="1120320"/>
                  <a:ext cx="430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 </a:t>
                  </a:r>
                  <a:r>
                    <a:rPr b="0" lang="en-US" sz="10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086800" y="1329840"/>
                  <a:ext cx="2840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889160" y="1320480"/>
                  <a:ext cx="276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898520" y="1520280"/>
                  <a:ext cx="276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5095080" y="1520280"/>
                  <a:ext cx="2840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820040" y="1725840"/>
                  <a:ext cx="40896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895280" y="2482560"/>
                  <a:ext cx="276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905000" y="2682360"/>
                  <a:ext cx="276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5101200" y="2682360"/>
                  <a:ext cx="2840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826520" y="2887920"/>
                  <a:ext cx="40896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860720" y="4406400"/>
                  <a:ext cx="325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10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895280" y="4606560"/>
                  <a:ext cx="276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5091840" y="4606560"/>
                  <a:ext cx="2840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892040" y="4816080"/>
                  <a:ext cx="276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5088600" y="4816080"/>
                  <a:ext cx="2840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908960" y="5027760"/>
                  <a:ext cx="40896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2821680" y="5067000"/>
                  <a:ext cx="2840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2834640" y="5266800"/>
                  <a:ext cx="276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3031200" y="5266800"/>
                  <a:ext cx="2840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2844360" y="5476320"/>
                  <a:ext cx="276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055320" y="5470200"/>
                  <a:ext cx="375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2622240" y="5470200"/>
                  <a:ext cx="276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2794680" y="5681880"/>
                  <a:ext cx="40896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5286960" y="2199240"/>
                <a:ext cx="41652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181120" y="220968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5" name=""/>
            <p:cNvSpPr/>
            <p:nvPr/>
          </p:nvSpPr>
          <p:spPr>
            <a:xfrm>
              <a:off x="1368000" y="61336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Fermentation and Cellular Respiration Compared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th fermentation and cellular respi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lycolysis to oxidize glucose and other organic fuels to pyru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rmentation and cellular respi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 in their final electr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mor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yruvate is a key juncture in catabo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1672920" y="1447560"/>
            <a:ext cx="5924880" cy="4750560"/>
            <a:chOff x="1672920" y="1447560"/>
            <a:chExt cx="5924880" cy="4750560"/>
          </a:xfrm>
        </p:grpSpPr>
        <p:grpSp>
          <p:nvGrpSpPr>
            <p:cNvPr id="1064" name=""/>
            <p:cNvGrpSpPr/>
            <p:nvPr/>
          </p:nvGrpSpPr>
          <p:grpSpPr>
            <a:xfrm>
              <a:off x="2819520" y="1447560"/>
              <a:ext cx="4778280" cy="4670280"/>
              <a:chOff x="2819520" y="1447560"/>
              <a:chExt cx="4778280" cy="4670280"/>
            </a:xfrm>
          </p:grpSpPr>
          <p:pic>
            <p:nvPicPr>
              <p:cNvPr id="10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1549440"/>
                <a:ext cx="4712400" cy="456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6" name=""/>
              <p:cNvSpPr/>
              <p:nvPr/>
            </p:nvSpPr>
            <p:spPr>
              <a:xfrm>
                <a:off x="4429800" y="1447560"/>
                <a:ext cx="840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167640" y="2064960"/>
                <a:ext cx="1035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YTOS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422600" y="2455200"/>
                <a:ext cx="937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549240" y="2755800"/>
                <a:ext cx="114372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 O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res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ermen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135760" y="2771640"/>
                <a:ext cx="167112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res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ellular respi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373200" y="4145040"/>
                <a:ext cx="83736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than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act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213160" y="4191840"/>
                <a:ext cx="999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etyl Co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093000" y="3942720"/>
                <a:ext cx="1504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ITOCHONDR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158520" y="4739040"/>
                <a:ext cx="57528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itr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y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1672920" y="58924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Evolutionary Significance of Glycolysi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nearly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ly evolved in ancient prokaryotes before there was oxygen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9.6: Glycolysis and the citric acid cycle connect to many other metabolic path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atabolic Pathways and Production of ATP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reakdown of organic molecules is exergo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Versatility of Catabolism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tabolic path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nel electrons from many kinds of organic molecules into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atabolism of various molecules from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2206080" y="1415880"/>
            <a:ext cx="3586320" cy="4985280"/>
            <a:chOff x="2206080" y="1415880"/>
            <a:chExt cx="3586320" cy="4985280"/>
          </a:xfrm>
        </p:grpSpPr>
        <p:grpSp>
          <p:nvGrpSpPr>
            <p:cNvPr id="1085" name=""/>
            <p:cNvGrpSpPr/>
            <p:nvPr/>
          </p:nvGrpSpPr>
          <p:grpSpPr>
            <a:xfrm>
              <a:off x="2570760" y="1415880"/>
              <a:ext cx="3221640" cy="4984920"/>
              <a:chOff x="2570760" y="1415880"/>
              <a:chExt cx="3221640" cy="498492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2570760" y="1415880"/>
                <a:ext cx="3221640" cy="4984920"/>
                <a:chOff x="2570760" y="1415880"/>
                <a:chExt cx="3221640" cy="4984920"/>
              </a:xfrm>
            </p:grpSpPr>
            <p:pic>
              <p:nvPicPr>
                <p:cNvPr id="108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26080" y="1466280"/>
                  <a:ext cx="2717280" cy="493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8" name=""/>
                <p:cNvSpPr/>
                <p:nvPr/>
              </p:nvSpPr>
              <p:spPr>
                <a:xfrm>
                  <a:off x="2989800" y="1939320"/>
                  <a:ext cx="5767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mino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cid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008600" y="1945440"/>
                  <a:ext cx="5857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ugar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683600" y="1978560"/>
                  <a:ext cx="6498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lycero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5311800" y="1939320"/>
                  <a:ext cx="48060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att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cid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3902040" y="2580480"/>
                  <a:ext cx="817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lycolysi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927960" y="2763000"/>
                  <a:ext cx="745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luco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645720" y="3314160"/>
                  <a:ext cx="12654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lyceraldehyde-3-  P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3893400" y="3754080"/>
                  <a:ext cx="788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yruv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898800" y="4277880"/>
                  <a:ext cx="8100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cetyl Co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570760" y="3692160"/>
                  <a:ext cx="453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025880" y="4976280"/>
                  <a:ext cx="5079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itri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ci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yc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3683880" y="6003720"/>
                  <a:ext cx="11786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xidativ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hosphory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5056920" y="1415880"/>
                  <a:ext cx="445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a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1" name=""/>
              <p:cNvSpPr/>
              <p:nvPr/>
            </p:nvSpPr>
            <p:spPr>
              <a:xfrm>
                <a:off x="2952360" y="1435680"/>
                <a:ext cx="690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tei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734640" y="1434240"/>
                <a:ext cx="1078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arbohydrat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3" name=""/>
            <p:cNvSpPr/>
            <p:nvPr/>
          </p:nvSpPr>
          <p:spPr>
            <a:xfrm>
              <a:off x="2206080" y="60955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iosynthesis (Anabolic Pathways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small molecules to build other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small molec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come directly from food or through glycolysis or the citric aci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gulation of Cellular Respiration via Feedback Mechanism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304920" y="1079280"/>
            <a:ext cx="853416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ontrolled by allosteric enzymes at key points in glycolysis and the citric aci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ontrol of cellular respi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2968200" y="1266480"/>
            <a:ext cx="3861720" cy="5134680"/>
            <a:chOff x="2968200" y="1266480"/>
            <a:chExt cx="3861720" cy="5134680"/>
          </a:xfrm>
        </p:grpSpPr>
        <p:grpSp>
          <p:nvGrpSpPr>
            <p:cNvPr id="1111" name=""/>
            <p:cNvGrpSpPr/>
            <p:nvPr/>
          </p:nvGrpSpPr>
          <p:grpSpPr>
            <a:xfrm>
              <a:off x="3468600" y="1266480"/>
              <a:ext cx="3361320" cy="5134320"/>
              <a:chOff x="3468600" y="1266480"/>
              <a:chExt cx="3361320" cy="5134320"/>
            </a:xfrm>
          </p:grpSpPr>
          <p:grpSp>
            <p:nvGrpSpPr>
              <p:cNvPr id="1112" name=""/>
              <p:cNvGrpSpPr/>
              <p:nvPr/>
            </p:nvGrpSpPr>
            <p:grpSpPr>
              <a:xfrm>
                <a:off x="3468600" y="1266480"/>
                <a:ext cx="3241800" cy="5134320"/>
                <a:chOff x="3468600" y="1266480"/>
                <a:chExt cx="3241800" cy="5134320"/>
              </a:xfrm>
            </p:grpSpPr>
            <p:pic>
              <p:nvPicPr>
                <p:cNvPr id="111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501000" y="1486800"/>
                  <a:ext cx="2894040" cy="4910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4" name=""/>
                <p:cNvSpPr/>
                <p:nvPr/>
              </p:nvSpPr>
              <p:spPr>
                <a:xfrm>
                  <a:off x="4683240" y="1266480"/>
                  <a:ext cx="745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luco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212000" y="1630080"/>
                  <a:ext cx="817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lycolysi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482360" y="1875600"/>
                  <a:ext cx="131112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ructose-6-phosphat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393800" y="2151720"/>
                  <a:ext cx="135864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hosphofructokina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332240" y="2531160"/>
                  <a:ext cx="15552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ructose-1,6-bisphosphat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3468600" y="2614320"/>
                  <a:ext cx="5842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nhibi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6040800" y="2590560"/>
                  <a:ext cx="6696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hibit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688640" y="3785040"/>
                  <a:ext cx="788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yruv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3524400" y="4149000"/>
                  <a:ext cx="456480" cy="25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ATP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644360" y="4295880"/>
                  <a:ext cx="8100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cetyl Co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4809600" y="5004720"/>
                  <a:ext cx="5079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itri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ci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yc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6072480" y="4143240"/>
                  <a:ext cx="6346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itr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4466160" y="6003720"/>
                  <a:ext cx="11786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xidativ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hosphory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" name=""/>
              <p:cNvSpPr/>
              <p:nvPr/>
            </p:nvSpPr>
            <p:spPr>
              <a:xfrm>
                <a:off x="6056640" y="1846080"/>
                <a:ext cx="773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imulat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142680" y="1533600"/>
                <a:ext cx="515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M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063480" y="1954800"/>
                <a:ext cx="288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698280" y="220788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067800" y="2278440"/>
                <a:ext cx="284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2" name=""/>
            <p:cNvSpPr/>
            <p:nvPr/>
          </p:nvSpPr>
          <p:spPr>
            <a:xfrm>
              <a:off x="2968200" y="60955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9.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catabolic process, fer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artial degradation of sugars that occurs without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most prevalent and efficient catabolic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s oxygen and organic molecules such as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s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keep wo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must regenerat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briant</cp:lastModifiedBy>
  <dcterms:modified xsi:type="dcterms:W3CDTF">2004-11-09T02:23:01Z</dcterms:modified>
  <cp:revision>221</cp:revision>
  <dc:subject/>
  <dc:title>video slide</dc:title>
</cp:coreProperties>
</file>